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253E-ABB9-4C39-804B-97EFE2F39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7B3F-3573-46F8-8E4C-BE4A016EE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09F9-61EB-4B97-98FB-4455E3497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1331-0482-4DA6-8DA2-B4D84D18C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4DE2-5664-4AC1-8A7B-33283788D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3A12-8E79-454F-B886-AAC914927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5706-B68C-4DE1-8019-5B5EFD2C4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FD14-1434-4AF5-B46C-526E532AA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C4C8-0014-4077-809E-EB27E5174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9224-67A5-424E-8580-B563715C0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85E6-0C52-46D3-B73C-21BDABA2F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CED8-1130-479F-BA29-CFD0F4CF3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97128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Times New Roman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6728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l-SI" sz="21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A888-26AF-468E-9FDF-B2DC8C1D8B12}" type="slidenum">
              <a:rPr b="1" lang="sl-SI" sz="2100" spc="-1" strike="noStrike">
                <a:solidFill>
                  <a:srgbClr val="003278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asica3"/>
          <p:cNvPicPr/>
          <p:nvPr/>
        </p:nvPicPr>
        <p:blipFill>
          <a:blip r:embed="rId2"/>
          <a:stretch/>
        </p:blipFill>
        <p:spPr>
          <a:xfrm>
            <a:off x="250920" y="71280"/>
            <a:ext cx="453960" cy="6724800"/>
          </a:xfrm>
          <a:prstGeom prst="rect">
            <a:avLst/>
          </a:prstGeom>
          <a:ln w="0">
            <a:noFill/>
          </a:ln>
        </p:spPr>
      </p:pic>
      <p:sp>
        <p:nvSpPr>
          <p:cNvPr id="5" name="Line 15"/>
          <p:cNvSpPr/>
          <p:nvPr/>
        </p:nvSpPr>
        <p:spPr>
          <a:xfrm>
            <a:off x="1042920" y="6381720"/>
            <a:ext cx="77058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pasica4"/>
          <p:cNvPicPr/>
          <p:nvPr/>
        </p:nvPicPr>
        <p:blipFill>
          <a:blip r:embed="rId2"/>
          <a:stretch/>
        </p:blipFill>
        <p:spPr>
          <a:xfrm>
            <a:off x="395280" y="71280"/>
            <a:ext cx="69048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Line 15"/>
          <p:cNvSpPr/>
          <p:nvPr/>
        </p:nvSpPr>
        <p:spPr>
          <a:xfrm>
            <a:off x="1476360" y="4149720"/>
            <a:ext cx="7272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naziv2"/>
          <p:cNvPicPr/>
          <p:nvPr/>
        </p:nvPicPr>
        <p:blipFill>
          <a:blip r:embed="rId3"/>
          <a:stretch/>
        </p:blipFill>
        <p:spPr>
          <a:xfrm>
            <a:off x="1403280" y="539640"/>
            <a:ext cx="18496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bras.org/" TargetMode="External"/><Relationship Id="rId2" Type="http://schemas.openxmlformats.org/officeDocument/2006/relationships/hyperlink" Target="http://bober.fri.uni-lj.s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m.org/education/education/curric_vols/CC2005-March06Final.pdf" TargetMode="External"/><Relationship Id="rId2" Type="http://schemas.openxmlformats.org/officeDocument/2006/relationships/hyperlink" Target="http://www.acm.org/education/curricula-recommendation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oinformatics.org/" TargetMode="External"/><Relationship Id="rId2" Type="http://schemas.openxmlformats.org/officeDocument/2006/relationships/hyperlink" Target="http://ceoi2011.mimuw.edu.pl/" TargetMode="External"/><Relationship Id="rId3" Type="http://schemas.openxmlformats.org/officeDocument/2006/relationships/hyperlink" Target="http://ceoi2011.mimuw.edu.p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m.math.spbu.ru/~snark/ioi/index.cgi?data=stat/pplwinners&amp;class=ioi2011&amp;year=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3962160"/>
            <a:ext cx="74170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2200"/>
            </a:b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čunalništvo in informatika j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 Brodnik, UL FR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gl-logo-FRI-portrait.pdf"/>
          <p:cNvPicPr/>
          <p:nvPr/>
        </p:nvPicPr>
        <p:blipFill>
          <a:blip r:embed="rId1"/>
          <a:stretch/>
        </p:blipFill>
        <p:spPr>
          <a:xfrm>
            <a:off x="6477120" y="228600"/>
            <a:ext cx="24796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ekmovanje </a:t>
            </a:r>
            <a:r>
              <a:rPr b="1" i="1" lang="sl-SI" sz="3200" spc="-1" strike="noStrike">
                <a:solidFill>
                  <a:srgbClr val="003278"/>
                </a:solidFill>
                <a:latin typeface="Arial"/>
              </a:rPr>
              <a:t>Bober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ober, Mednarodno tekmovanje iz izurjenosti v računalništvu in informatiki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Bebras, International Contest on Information and Computer Fluenc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ebras.or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menjeno osnovnošolcem in srednješolc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podobne tekmovanju Kengu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se izberejo na programskem srečan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j nalog je obvezn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lovenija sodeluje od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ober.fri.uni-lj.s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5074-95B4-46C4-B748-17223FAB49D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tekmovanja so samo vrh piramide, ki lahko nastane in gradi na široki osno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embna jo izboljšati splošno znanje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29% podjetij z 10 ali več zaposlenimi osebami, ki so v letu 2005 zaposlovali osebe, za katere se zahteva računalniško znanje, je pri tem naletelo na težave. Največ teh podjetij, 70%, je imelo težave zaradi pomanjkanja oseb z ustreznim znanjem uporabe računalnika oz. programov, 53% jih je imelo težave zaradi pomanjkanja informatikov (Kačič, 2006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omazin in A. Brodnik. Učni cilji pouka računalništva v osnovni šoli – slovenski in ACM K12 kurikulu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6E00-9F3A-44CC-86C8-09EB0EB7C1C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gospodarstvo in znanost sta močno odvisna od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nženirstvo (strojništvo, gradbeništvo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osti (sistemska kemija, bioinformatika, fizik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družboslovje (ekonomija, sociologij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humanistika (jezikoslovje, muzikologija, teolog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icina, š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činkovitost dela je odvisna od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računalniške pismenosti v najširšem pomenu bese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edino splošna šola (osnovna, srednja) lahko dâ takšn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0BCA-8547-4A48-8DCE-238798ECE4B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in (slovenski) izobraževalni siste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ela knjiga 2011 (BK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dročna strokovna skupina za načela v vzgoji in izobraževanju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aradi odvisnosti uspešnosti družb znanja od stopnje integracije IKT v njihovo delovanje in od razširjenosti ustvarjalne uporabe med ljudmi bo izobraževanje za družbo znanja moralo poskrbeti za dvig ravni tehnološke kulture vseh njenih članov in za primerno javno tehnološko infrastruktu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 BK ni predloga implementacije zgornjega načela niti v PSS za osnovno šolo niti v PSS za srednjo šo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B5FC-B708-4E82-9249-29D81FBF95B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on and Communication Technology in Secondary Education – A Curriculum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edu.ge.ch/cptic/prospective/projets/unesco/en/welcome.htm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tirje sklopi razdeljenih na modu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KT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raba IKT na drugih področj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cija IKT v druge kurikulu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IKT: </a:t>
            </a: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uvod v programiranje; načrtovanje programov od zgoraj navzdol; osnovo programiranja in razvoja programja; zahtevnejši elementi programiranja; poslovni informacijski sistemi; nadzor procesov; vodenje projek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3798-4961-4A21-8E99-8C4DC62464E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snovan kot obvezni predmet od vrtca do konca srednje š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csta.acm.org/Curriculum/sub/ACMK12CSModel.html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je proučevanje računalnikov in algoritmičnih procesov, vključno z njihovimi temelji, njihovo strojno opremo in sestavo programske opreme, njihovo uporabo in njihov vpliv na družbo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iranje; načrtovanje strojne opreme; omrežja; grafika; baze podatkov in pridobitev podatkov iz teh; računalniška varnost; načrtovanje programske opreme; programski jeziki; logika; programerske paradigme; prehodi med različnimi stopnjami abstrakcije; umetna inteligenca; meje izračunljivosti (česa računalniki ne zmorejo); programi v informacijski tehnologiji in informacijskih sistemih; družbena vprašanja (varnost interneta, zasebnost, intelektualna lastnina, i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D996-5D58-4297-9A26-B39456DAA219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deljen na štiri zaporedne faz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umevanje računalniške znanosti in umestitve računalnika v sodobnem ok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znanje, da računalništvo omogoča spoznavanje novih načel in pridobivanje novih spre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sobnost uporabe računalniških spretnosti (predvsem algoritmičnega razmišljanja) tudi pri reševanju problemov iz drugh, ne naravoslovnih področij (npr. razumevanju semantike jez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olnitev drugih raznovrstnih kurikulumov za računalništvo v vsaki šoli, ki že ponuja pouk računal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 Tomazin. Analiza učnih ciljev za pouk računalništva v osnovni šoli. Diplomsko delo, UP PEF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sno opredeljeni učni cilji po vsaki fazi (tria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CFF7-8C65-4E51-BACF-3B796281419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nternational Olympiad in Informatics Syllabu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people.ksp.sk/~misof/ioi-syllabus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je, ki se pričakuje za reševanje nalog na IOI: teoretične osnove in inženirska zn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teoretične osnov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aritmetika in geometrija; diskretne strukture; osnovna logika; tehnike dokazovanja pravilnosti; principi števnosti; grafi in dreves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ženirska znanj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programske strukture; rekurzij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algoritmična zahtev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ocena zahtevnosti; znani algoritmi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058D-8C8E-4E67-959F-10B014B86E3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/ 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P PEF in OŠ Koper izveden polletni krožek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godnje učenje računalništva in informati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 5. razred v okviru predmeta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Didaktika računalniš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e.famnit.upr.si/course/view.php?id=287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uniciranje in računalnik; Naš delovni prostor; Operacijski sistem računalnika; Vhodne in izhodne naprave; Kaj sestavlja računalnik; Vhodne in izhodne naprave; Tipkanje; Komuniciranje; Podatki in informacije; Urejevalnik besedil; Edubuntu; Prvo delo z računalnikom - učenje rokovanja z miško in tipkovnico; Scratch; Al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B4E7-30A7-4B1E-BA27-A23F4228D5A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in 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 celoletni krožek: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Bežigrad, ŠC Srečka Kosovela Sežan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Vič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Škofijska klasična gimnazija Ljublj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redmine.fri.uni-lj.si/projects/krozek, http://moodle.lrk.si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snovna skupina: programiranje v programskem jeziku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; izdelava spletne igrice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otapljanje ladji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labirin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daljevalna skupina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nadaljevanje spoznavanja programiranja v programskem jeziku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; priprava na državno ACM tekmovanje v računalništvu in informat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ijs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fri.uni-lj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1931-4EE3-4AFB-8442-7558531F542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ačunalništvo in informatika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področje obdelave podatkov (informacij) sta se oblikovala izraz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puter Scienc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ng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vetenskap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log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šved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franc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nem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ita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rušč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slovenščini zaradi zgodovinskih okolišč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disciplino nimamo enoznačnega enobesednega izraz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in informatik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včasih okrajšujemo samo n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kologij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o na tri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0248-6F3F-4C82-B030-B11C5B04B6A9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a poletne šole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iprava na I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rtk.fri.uni-lj.si/course/view.php?id=8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novne podatkovne strukture in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oritmi na graf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žrešni algoritmi in dinamično program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čunska geomet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binator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Številski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776B-804C-4AAB-B760-90293CF961DB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n kam sedaj ...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zboljšati splošno računalnišk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oč učiteljem RIN – UL FRI se zaveda svoje vloge in odgovornosti =&gt; </a:t>
            </a: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dobrodoš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vajanje RIN v osnovni šoli kot obvezni predm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32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Slovaška, Avstrija, Nemčija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viti pedagoški program RIN s poudarkom na didaktiki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življensko (do)izobraže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likovanje skupnosti učiteljev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prememba kurikuluma RIN v osnovni in srednji šo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oz lahko premaknemo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samo, če bomo sodelova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0BC6-19F5-44AE-B323-18E52A4391F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Hvala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brodoš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B546-7463-42C4-8EF6-67F0E1FB2E7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ri podpodročja, ki jih ni več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152388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 letom 1990 smo delil RIN na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CM, IEEE-CS. Computing Curricula 2005, str. 12.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cm.org/education/education/curric_vols/CC2005-March06Final.pd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sneje delimo RIN na usmerjenost (štud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čunalniško inženirstvo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računalniška zna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i sistem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e tehnologij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ogramsko inženirstv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osnova vseh študijev je skup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http://www.acm.org/education/curricula-recommendation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8AB6-E7B0-4676-9F22-361D8919F66F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narodna olimpijada iz RIN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ternational Olympiad in Informatic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je ena od petih UNESCO akademskih olimpijad za srednješol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oinformatic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leg IOI obstajajo regionalne in nacionalne olimpija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rednjeevropska olimpijada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EO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Slovenija (ponovno) sodeluje od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ceoi2011.mimuw.edu.p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FC60-4E96-43F2-B178-E97208C6FA2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teri zmagovalc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m.math.spbu.ru/~snark/ioi/index.cgi?data=stat/pplwinners&amp;class=ioi2011&amp;year=2011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 Bronson(1992) – Stanfor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u-Lucian Lupsa (1993) – Babes-Bolyai University, Clu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ábor Kovács (1994) - Budapest University of Technology and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niel Kral (1996) – Karlova univ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s Sermulins (1997) –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Wight (1998) – Villanov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ong Chen (1999) – Amazon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3FD2-D176-42C7-A73A-EEE98EA9DAC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2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- Bolg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- Beloru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- G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- Nem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- Šved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- Nizozem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- Madža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- Portuga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- Tu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- Kitaj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E659-8C6C-467A-9739-7D7C93F9386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9528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- Fin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- Z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- Grč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- Pol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- Meh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- Hrvaš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- Egi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- Bolga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- Kan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- Ta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- Ital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4017-8350-4836-A416-1BC1692D11F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5676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2011 – Tajska: (308 tekmovalcev, 79 drža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alje: 1 bronast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79. mesto – v 1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skupnem številu točk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7. država – v 3/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povprečju na tekmovalc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8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bolj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39. država – v 2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slab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6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16FE-ABE4-413C-946B-8C88FDDFEA3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523880"/>
            <a:ext cx="3810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– Bolgar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– Belorus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– Gr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– Nem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sodelov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– Argentin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– Šved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– Nizozem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– Madžar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bron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– Portugal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– Turčij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Kitaj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E38C-105B-4437-A87D-A7F032565D9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800600" y="1523880"/>
            <a:ext cx="4038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– Fin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– Z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3 brona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– Grči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– Polj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– Mehi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– Hrvašk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Egipt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– Bolgarij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– Kana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srebr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– Tajska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l-SI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40:18Z</dcterms:created>
  <dc:creator>Boris Divjak</dc:creator>
  <dc:description/>
  <dc:language>en-US</dc:language>
  <cp:lastModifiedBy>Andrej (Andy) Brodnik</cp:lastModifiedBy>
  <cp:lastPrinted>2011-08-23T08:47:25Z</cp:lastPrinted>
  <dcterms:modified xsi:type="dcterms:W3CDTF">2011-08-24T21:10:45Z</dcterms:modified>
  <cp:revision>217</cp:revision>
  <dc:subject/>
  <dc:title>Slide 1</dc:title>
</cp:coreProperties>
</file>