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53CE6-7324-4851-B81F-DAA630F379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71280" y="41731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9DFAF-FAA9-40FB-B433-9C88727F0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284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A5908-BA21-4A2C-899F-8F70486AAE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2484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840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7128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2484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840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FADC6-4B4F-471D-863A-3F99A80F2C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71280" y="691920"/>
            <a:ext cx="784836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94C93-FBF2-415A-9BDE-050E2B3BF5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284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71280" y="41731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284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2484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7840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7128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2484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7840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0B81A-A043-4843-A0F5-C418DE85B9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28089-31F4-4BF0-933B-CD3682B677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28CF3-FE5C-4B4E-B921-D0A624D599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71280" y="691920"/>
            <a:ext cx="784836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5EDBB-0D09-40C4-AE30-B86E1BE7A3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B0B89-C436-49D4-8608-0082A4DF3B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284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A05F6-7800-4F72-A7D5-9CAD135E84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57A8A-EA43-4FB0-8877-8421828D8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27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97128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327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Times New Roman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66728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l-SI" sz="2100" spc="-1" strike="noStrike">
                <a:solidFill>
                  <a:srgbClr val="0032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8875-266B-4249-82BE-FB9790688F67}" type="slidenum">
              <a:rPr b="1" lang="sl-SI" sz="2100" spc="-1" strike="noStrike">
                <a:solidFill>
                  <a:srgbClr val="003278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4" descr="pasica3"/>
          <p:cNvPicPr/>
          <p:nvPr/>
        </p:nvPicPr>
        <p:blipFill>
          <a:blip r:embed="rId2"/>
          <a:stretch/>
        </p:blipFill>
        <p:spPr>
          <a:xfrm>
            <a:off x="250920" y="71280"/>
            <a:ext cx="453960" cy="6724800"/>
          </a:xfrm>
          <a:prstGeom prst="rect">
            <a:avLst/>
          </a:prstGeom>
          <a:ln w="0">
            <a:noFill/>
          </a:ln>
        </p:spPr>
      </p:pic>
      <p:sp>
        <p:nvSpPr>
          <p:cNvPr id="5" name="Line 15"/>
          <p:cNvSpPr/>
          <p:nvPr/>
        </p:nvSpPr>
        <p:spPr>
          <a:xfrm>
            <a:off x="1042920" y="6381720"/>
            <a:ext cx="770580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pasica4"/>
          <p:cNvPicPr/>
          <p:nvPr/>
        </p:nvPicPr>
        <p:blipFill>
          <a:blip r:embed="rId2"/>
          <a:stretch/>
        </p:blipFill>
        <p:spPr>
          <a:xfrm>
            <a:off x="395280" y="71280"/>
            <a:ext cx="690480" cy="6699240"/>
          </a:xfrm>
          <a:prstGeom prst="rect">
            <a:avLst/>
          </a:prstGeom>
          <a:ln w="0">
            <a:noFill/>
          </a:ln>
        </p:spPr>
      </p:pic>
      <p:sp>
        <p:nvSpPr>
          <p:cNvPr id="43" name="Line 15"/>
          <p:cNvSpPr/>
          <p:nvPr/>
        </p:nvSpPr>
        <p:spPr>
          <a:xfrm>
            <a:off x="1476360" y="4149720"/>
            <a:ext cx="72723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7" descr="naziv2"/>
          <p:cNvPicPr/>
          <p:nvPr/>
        </p:nvPicPr>
        <p:blipFill>
          <a:blip r:embed="rId3"/>
          <a:stretch/>
        </p:blipFill>
        <p:spPr>
          <a:xfrm>
            <a:off x="1403280" y="539640"/>
            <a:ext cx="1849680" cy="973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27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ebras.org/" TargetMode="External"/><Relationship Id="rId2" Type="http://schemas.openxmlformats.org/officeDocument/2006/relationships/hyperlink" Target="http://bober.fri.uni-lj.si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cm.org/education/education/curric_vols/CC2005-March06Final.pdf" TargetMode="External"/><Relationship Id="rId2" Type="http://schemas.openxmlformats.org/officeDocument/2006/relationships/hyperlink" Target="http://www.acm.org/education/curricula-recommendations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oinformatics.org/" TargetMode="External"/><Relationship Id="rId2" Type="http://schemas.openxmlformats.org/officeDocument/2006/relationships/hyperlink" Target="http://ceoi2011.mimuw.edu.pl/" TargetMode="External"/><Relationship Id="rId3" Type="http://schemas.openxmlformats.org/officeDocument/2006/relationships/hyperlink" Target="http://ceoi2011.mimuw.edu.pl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cm.math.spbu.ru/~snark/ioi/index.cgi?data=stat/pplwinners&amp;class=ioi2011&amp;year=2011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3962160"/>
            <a:ext cx="741708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278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2200"/>
            </a:br>
            <a:r>
              <a:rPr b="1" lang="en-US" sz="3600" spc="-1" strike="noStrike">
                <a:solidFill>
                  <a:srgbClr val="003278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4149720"/>
            <a:ext cx="7416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ačunalništvo in informatika j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Andrej Brodnik, UL FRI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andrej.brodnik@fri.uni-lj.s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gl-logo-FRI-portrait.pdf"/>
          <p:cNvPicPr/>
          <p:nvPr/>
        </p:nvPicPr>
        <p:blipFill>
          <a:blip r:embed="rId1"/>
          <a:stretch/>
        </p:blipFill>
        <p:spPr>
          <a:xfrm>
            <a:off x="6477120" y="228600"/>
            <a:ext cx="247968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Tekmovanje </a:t>
            </a:r>
            <a:r>
              <a:rPr b="1" i="1" lang="sl-SI" sz="3200" spc="-1" strike="noStrike">
                <a:solidFill>
                  <a:srgbClr val="003278"/>
                </a:solidFill>
                <a:latin typeface="Arial"/>
              </a:rPr>
              <a:t>Bober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Bober, Mednarodno tekmovanje iz izurjenosti v računalništvu in informatiki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Bebras, International Contest on Information and Computer Fluency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l-SI" sz="2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ebras.org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menjeno osnovnošolcem in srednješolc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loge podobne tekmovanju Kengu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loge se izberejo na programskem srečanj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ekaj nalog je obvezni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lovenija sodeluje od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l-SI" sz="2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ober.fri.uni-lj.si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5242-625D-4214-8EA5-D6DB1E490878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RIN ni samo RIN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tekmovanja so samo vrh piramide, ki lahko nastane in gradi na široki osno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membna jo izboljšati splošno znanje R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29% podjetij z 10 ali več zaposlenimi osebami, ki so v letu 2005 zaposlovali osebe, za katere se zahteva računalniško znanje, je pri tem naletelo na težave. Največ teh podjetij, 70%, je imelo težave zaradi pomanjkanja oseb z ustreznim znanjem uporabe računalnika oz. programov, 53% jih je imelo težave zaradi pomanjkanja informatikov (Kačič, 2006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Tomazin in A. Brodnik. Učni cilji pouka računalništva v osnovni šoli – slovenski in ACM K12 kurikulum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1288-2CD2-4639-9712-D17261DF5517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RIN ni samo RIN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gospodarstvo in znanost sta močno odvisna od R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inženirstvo (strojništvo, gradbeništvo, 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znanosti (sistemska kemija, bioinformatika, fizika, 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družboslovje (ekonomija, sociologija, 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humanistika (jezikoslovje, muzikologija, teologij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medicina, špo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učinkovitost dela je odvisna od </a:t>
            </a:r>
            <a:r>
              <a:rPr b="1" lang="sl-SI" sz="2100" spc="-1" strike="noStrike">
                <a:solidFill>
                  <a:srgbClr val="ff0000"/>
                </a:solidFill>
                <a:latin typeface="Arial"/>
              </a:rPr>
              <a:t>računalniške pismenosti v najširšem pomenu besed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edino splošna šola (osnovna, srednja) lahko dâ takšno pismeno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F36B-2587-420C-AD41-911543AF54F6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RIN in (slovenski) izobraževalni siste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Bela knjiga 2011 (BK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odročna strokovna skupina za načela v vzgoji in izobraževanju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Zaradi odvisnosti uspešnosti družb znanja od stopnje integracije IKT v njihovo delovanje in od razširjenosti ustvarjalne uporabe med ljudmi bo izobraževanje za družbo znanja moralo poskrbeti za dvig ravni tehnološke kulture vseh njenih članov in za primerno javno tehnološko infrastruktur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 BK ni predloga implementacije zgornjega načela niti v PSS za osnovno šolo niti v PSS za srednjo šol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65AE-1426-4B25-8C98-7ABEF8A4606C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UNESCO IFIP RIN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on and Communication Technology in Secondary Education – A Curriculum for Schoo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wwwedu.ge.ch/cptic/prospective/projets/unesco/en/welcome.htm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štirje sklopi razdeljenih na modul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KT pismeno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poraba IKT na drugih področji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egracija IKT v druge kurikulu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IKT: </a:t>
            </a:r>
            <a:r>
              <a:rPr b="0" i="1" lang="en-US" sz="2100" spc="-1" strike="noStrike">
                <a:solidFill>
                  <a:srgbClr val="ff0000"/>
                </a:solidFill>
                <a:latin typeface="Arial"/>
              </a:rPr>
              <a:t>uvod v programiranje; načrtovanje programov od zgoraj navzdol; osnovo programiranja in razvoja programja; zahtevnejši elementi programiranja; poslovni informacijski sistemi; nadzor procesov; vodenje projektov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08FA-543B-43BF-9685-6BAAE3CA702C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ACM K12 RIN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zasnovan kot obvezni predmet od vrtca do konca srednje šo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csta.acm.org/Curriculum/sub/ACMK12CSModel.html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čunalništvo je proučevanje računalnikov in algoritmičnih procesov, vključno z njihovimi temelji, njihovo strojno opremo in sestavo programske opreme, njihovo uporabo in njihov vpliv na družbo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«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seb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iranje; načrtovanje strojne opreme; omrežja; grafika; baze podatkov in pridobitev podatkov iz teh; računalniška varnost; načrtovanje programske opreme; programski jeziki; logika; programerske paradigme; prehodi med različnimi stopnjami abstrakcije; umetna inteligenca; meje izračunljivosti (česa računalniki ne zmorejo); programi v informacijski tehnologiji in informacijskih sistemih; družbena vprašanja (varnost interneta, zasebnost, intelektualna lastnina, it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EAC2-468C-4A9C-B413-DF750BDDA1F2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ACM K12 RIN kurikulum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razdeljen na štiri zaporedne faz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27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umevanje računalniške znanosti in umestitve računalnika v sodobnem okol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27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znanje, da računalništvo omogoča spoznavanje novih načel in pridobivanje novih spret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27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sobnost uporabe računalniških spretnosti (predvsem algoritmičnega razmišljanja) tudi pri reševanju problemov iz drugh, ne naravoslovnih področij (npr. razumevanju semantike jezi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27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polnitev drugih raznovrstnih kurikulumov za računalništvo v vsaki šoli, ki že ponuja pouk računalniš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. Tomazin. Analiza učnih ciljev za pouk računalništva v osnovni šoli. Diplomsko delo, UP PEF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jasno opredeljeni učni cilji po vsaki fazi (triad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CC0A-FE43-4084-B777-BE85F38CCCE9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IOI RIN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The International Olympiad in Informatics Syllabus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people.ksp.sk/~misof/ioi-syllabus/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znanje, ki se pričakuje za reševanje nalog na IOI: teoretične osnove in inženirska znan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sebin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teoretične osnov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 aritmetika in geometrija; diskretne strukture; osnovna logika; tehnike dokazovanja pravilnosti; principi števnosti; grafi in drevesa; 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ženirska znanja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 programske strukture; rekurzija; 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algoritmična zahtevnost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 ocena zahtevnosti; znani algoritmi; 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C8BC-6130-44AA-AE52-15B38A18B1E4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ACM K12 / UNESCO IFIP RIN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 UP PEF in OŠ Koper izveden polletni krožek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Zgodnje učenje računalništva in informatik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za 5. razred v okviru predmeta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Didaktika računalništv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s://e.famnit.upr.si/course/view.php?id=287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obravnavane učne enot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omuniciranje in računalnik; Naš delovni prostor; Operacijski sistem računalnika; Vhodne in izhodne naprave; Kaj sestavlja računalnik; Vhodne in izhodne naprave; Tipkanje; Komuniciranje; Podatki in informacije; Urejevalnik besedil; Edubuntu; Prvo delo z računalnikom - učenje rokovanja z miško in tipkovnico; Scratch; Al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39E2-6B9B-46BE-9379-C71056B8174B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ACM K12 RIN in IOI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 UL FRI izveden celoletni krožek: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Gimnazija Bežigrad, ŠC Srečka Kosovela Sežana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Gimnazija Vič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Škofijska klasična gimnazija Ljublja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s://redmine.fri.uni-lj.si/projects/krozek, http://moodle.lrk.si/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sebin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osnovna skupina: programiranje v programskem jeziku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python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; izdelava spletne igrice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potapljanje ladjic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labirint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daljevalna skupina: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nadaljevanje spoznavanja programiranja v programskem jeziku 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ython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; priprava na državno ACM tekmovanje v računalništvu in informat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rtk.ijs.si/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rtk.fri.uni-lj.si/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716C-1E1C-4E3C-A701-C12E08EFF917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Računalništvo in informatika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a področje obdelave podatkov (informacij) sta se oblikovala izraz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Computer Science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angl.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atavetenskap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atalogi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šved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que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franc.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k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nem.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c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ital.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информатик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rušč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 slovenščini zaradi zgodovinskih okolišč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a disciplino nimamo enoznačnega enobesednega izraza: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čunalništvo in informatiko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I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 – včasih okrajšujemo samo na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čunalništvo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čunalnikologij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– ?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limo na tri podpodročja: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trojna oprem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rogramska oprem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CCB9-516B-4123-8589-C6CF66FBE495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IOI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 UL FRI izvedena poletne šole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Priprava na IO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rtk.fri.uni-lj.si/course/view.php?id=8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obravnavane učne enot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snovne podatkovne strukture in algoritm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goritmi na grafi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žrešni algoritmi in dinamično programiran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ačunska geometri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ombinatori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Številski algoritm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4927-BFB4-4FB4-95A1-45058872CD3F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In kam sedaj ...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izboljšati splošno računalniško pismeno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moč učiteljem RIN – UL FRI se zaveda svoje vloge in odgovornosti =&gt; </a:t>
            </a:r>
            <a:r>
              <a:rPr b="1" i="1" lang="sl-SI" sz="2100" spc="-1" strike="noStrike">
                <a:solidFill>
                  <a:srgbClr val="000000"/>
                </a:solidFill>
                <a:latin typeface="Arial"/>
              </a:rPr>
              <a:t>dobrodoš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uvajanje RIN v osnovni šoli kot obvezni predm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00327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Arial"/>
              </a:rPr>
              <a:t>Slovaška, Avstrija, Nemčija, 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razviti pedagoški program RIN s poudarkom na didaktiki R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seživljensko (do)izobraževan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oblikovanje skupnosti učiteljev R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prememba kurikuluma RIN v osnovni in srednji šo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oz lahko premaknemo </a:t>
            </a:r>
            <a:r>
              <a:rPr b="1" lang="sl-SI" sz="2100" spc="-1" strike="noStrike">
                <a:solidFill>
                  <a:srgbClr val="ff0000"/>
                </a:solidFill>
                <a:latin typeface="Arial"/>
              </a:rPr>
              <a:t>samo, če bomo sodelova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8ED7-C5C2-456D-A6B3-6CE03F7D8192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Hvala za pozor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brodošl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andrej.brodnik@fri.uni-lj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D09E-F4C4-49B2-9ED5-4AC3B6C1CD37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Tri podpodročja, ki jih ni več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71280" y="1523880"/>
            <a:ext cx="78483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d letom 1990 smo delil RIN na podpodročja: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trojna oprem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rogramska oprem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ACM, IEEE-CS. Computing Curricula 2005, str. 12. </a:t>
            </a:r>
            <a:r>
              <a:rPr b="0" lang="en-US" sz="2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cm.org/education/education/curric_vols/CC2005-March06Final.pdf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kasneje delimo RIN na usmerjenost (študij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računalniško inženirstvo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Computer Engineering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računalniška znanost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formacijski sistemi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formation Scienc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formacijske tehnologij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formation Technology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programsko inženirstvo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Software Engineering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100" spc="-1" strike="noStrike">
                <a:solidFill>
                  <a:srgbClr val="000000"/>
                </a:solidFill>
                <a:latin typeface="Arial"/>
              </a:rPr>
              <a:t>osnova vseh študijev je skup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(http://www.acm.org/education/curricula-recommendations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4906-C572-4629-BD64-22857589D93D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Mednarodna olimpijada iz RIN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38080" y="1447560"/>
            <a:ext cx="79819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Mednarodna olimpijada iz RIN 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ternational Olympiad in Informatics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je ena od petih UNESCO akademskih olimpijad za srednješol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oinformatics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leg IOI obstajajo regionalne in nacionalne olimpijad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rednjeevropska olimpijada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CEOI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Slovenija (ponovno) sodeluje od 20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tp://ceoi2011.mimuw.edu.p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3831-8582-4CD4-B238-D899FB96168E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Mednarodna olimpijada iz RIN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1447560"/>
            <a:ext cx="79819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ekateri zmagovalci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cm.math.spbu.ru/~snark/ioi/index.cgi?data=stat/pplwinners&amp;class=ioi2011&amp;year=2011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han Bronson(1992) – Stanford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u-Lucian Lupsa (1993) – Babes-Bolyai University, Clu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ábor Kovács (1994) - Budapest University of Technology and Econ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Daniel Kral (1996) – Karlova univer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is Sermulins (1997) – 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iel Wight (1998) – Villanova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Hong Chen (1999) – Amazon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AA11-3CED-48D2-A9DD-26C4FBF02ABE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Dosedanje olimpijade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71280" y="1523880"/>
            <a:ext cx="367668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9 - Bolgar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0 - Belorus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1 - Grč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 - Nemč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3 -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 - Šved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 - Nizozem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 - Madžar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7 - Južna Afr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8 - Portugal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9 - Turč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 - Kitaj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D99F-FDD7-4709-A482-D35F09C92A56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952880" y="1523880"/>
            <a:ext cx="36766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1 - Fins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2 - Južna Kore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3 - Z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4 - Grči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5 - Poljs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6 - Mehi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7 - Hrvaš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8 - Egip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9 - Bolgari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0 - Kan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1 - Tajs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2 - Itali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Dosedanje olimpijade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BE6E-4697-49B7-BFB0-FC5ADEEDF845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55676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Slovenske uvrstitve na IOI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2011 – Tajska: (308 tekmovalcev, 79 držav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medalje: 1 bronasta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79. mesto – v 1/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 skupnem številu točk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57. država – v 3/4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 povprečju na tekmovalca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58. država – v 3/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amo najboljši tekmovalec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39. država – v 2/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amo najslabši tekmovalec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56. država – v 3/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516C-785E-4552-9E0C-5E291B0AC0E2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Slovenske uvrstitve na IOI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1523880"/>
            <a:ext cx="38102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9 – Bolgarij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0 – Belorusij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1 – Grčij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 – Nemčij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i sodelov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3 – Argentin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 – Švedsk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ez medal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 – Nizozemsk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 – Madžarska: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 brona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7 - Južna Afrika: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8 – Portugalska: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9 – Turčija: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 – Kitajsk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4D03-8F9C-4D5C-A1E2-5355886887C1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tent Placeholder 2"/>
          <p:cNvSpPr/>
          <p:nvPr/>
        </p:nvSpPr>
        <p:spPr>
          <a:xfrm>
            <a:off x="4800600" y="1523880"/>
            <a:ext cx="40384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1 – Finska: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2 - Južna Korej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3 – ZD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3 bronas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4 – Grčij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5 – Poljska: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6 – Mehika: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7 – Hrvašk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8 – Egipt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9 – Bolgarija: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brez medal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0 – Kanad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srebr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1 – Tajska: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l-SI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6:40:18Z</dcterms:created>
  <dc:creator>Boris Divjak</dc:creator>
  <dc:description/>
  <dc:language>en-US</dc:language>
  <cp:lastModifiedBy>Andrej (Andy) Brodnik</cp:lastModifiedBy>
  <cp:lastPrinted>2011-08-23T08:47:25Z</cp:lastPrinted>
  <dcterms:modified xsi:type="dcterms:W3CDTF">2011-08-24T21:10:45Z</dcterms:modified>
  <cp:revision>217</cp:revision>
  <dc:subject/>
  <dc:title>Slide 1</dc:title>
</cp:coreProperties>
</file>