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04025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D02880-06AE-4279-BB8B-9748E22346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784836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27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71280" y="1915920"/>
            <a:ext cx="784836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971280" y="4173120"/>
            <a:ext cx="784836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4D25BC-017E-4F45-8C5A-33300BB5F9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784836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27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71280" y="1915920"/>
            <a:ext cx="38296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92840" y="1915920"/>
            <a:ext cx="38296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71280" y="4173120"/>
            <a:ext cx="38296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92840" y="4173120"/>
            <a:ext cx="38296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31F85A-D38C-4C96-9E44-51766EBBC4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784836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278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71280" y="1915920"/>
            <a:ext cx="252684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24840" y="1915920"/>
            <a:ext cx="252684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78400" y="1915920"/>
            <a:ext cx="252684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971280" y="4173120"/>
            <a:ext cx="252684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24840" y="4173120"/>
            <a:ext cx="252684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78400" y="4173120"/>
            <a:ext cx="252684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8D9C72-B0CE-406C-A97C-C235FC2FCE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784836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278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971280" y="1915920"/>
            <a:ext cx="78483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784836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27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71280" y="1915920"/>
            <a:ext cx="784836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784836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27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971280" y="1915920"/>
            <a:ext cx="382968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992840" y="1915920"/>
            <a:ext cx="382968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784836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27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971280" y="691920"/>
            <a:ext cx="7848360" cy="53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784836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278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71280" y="1915920"/>
            <a:ext cx="38296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92840" y="1915920"/>
            <a:ext cx="382968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971280" y="4173120"/>
            <a:ext cx="38296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784836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27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971280" y="1915920"/>
            <a:ext cx="78483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3F9C00-E361-4E1E-957F-2C356319BC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784836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278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71280" y="1915920"/>
            <a:ext cx="382968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92840" y="1915920"/>
            <a:ext cx="38296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992840" y="4173120"/>
            <a:ext cx="38296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784836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278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71280" y="1915920"/>
            <a:ext cx="38296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92840" y="1915920"/>
            <a:ext cx="38296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71280" y="4173120"/>
            <a:ext cx="784836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784836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278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71280" y="1915920"/>
            <a:ext cx="784836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971280" y="4173120"/>
            <a:ext cx="784836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784836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278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71280" y="1915920"/>
            <a:ext cx="38296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92840" y="1915920"/>
            <a:ext cx="38296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971280" y="4173120"/>
            <a:ext cx="38296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992840" y="4173120"/>
            <a:ext cx="38296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784836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278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71280" y="1915920"/>
            <a:ext cx="252684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624840" y="1915920"/>
            <a:ext cx="252684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278400" y="1915920"/>
            <a:ext cx="252684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971280" y="4173120"/>
            <a:ext cx="252684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624840" y="4173120"/>
            <a:ext cx="252684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278400" y="4173120"/>
            <a:ext cx="252684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784836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27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71280" y="1915920"/>
            <a:ext cx="784836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F7F609-2543-403E-B6BD-E1A0F98D26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784836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27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71280" y="1915920"/>
            <a:ext cx="382968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92840" y="1915920"/>
            <a:ext cx="382968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289359-25E9-4E7B-B87E-EC2C96620A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784836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27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A5B315-4606-47F4-AAFB-C2F68DA462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71280" y="691920"/>
            <a:ext cx="7848360" cy="53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AF66D8-630E-4C9A-847B-B76977BB5D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784836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27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71280" y="1915920"/>
            <a:ext cx="38296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92840" y="1915920"/>
            <a:ext cx="382968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971280" y="4173120"/>
            <a:ext cx="38296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654228-DEF3-4480-A6CD-709615709E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784836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27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71280" y="1915920"/>
            <a:ext cx="382968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92840" y="1915920"/>
            <a:ext cx="38296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92840" y="4173120"/>
            <a:ext cx="38296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29EB40-9D02-4D83-9449-1208120A88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784836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27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71280" y="1915920"/>
            <a:ext cx="38296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92840" y="1915920"/>
            <a:ext cx="38296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71280" y="4173120"/>
            <a:ext cx="784836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949865-8022-4D1E-82B1-CE62A70FC5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784836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27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27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971280" y="6237360"/>
            <a:ext cx="626436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327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278"/>
                </a:solidFill>
                <a:latin typeface="Times New Roman"/>
              </a:rPr>
              <a:t>Andrej Brodnik: Računalništvo in informatika je 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7667280" y="6308640"/>
            <a:ext cx="115236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sl-SI" sz="2100" spc="-1" strike="noStrike">
                <a:solidFill>
                  <a:srgbClr val="00327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7FF3C-AEE2-442C-AA43-02829CB17EBA}" type="slidenum">
              <a:rPr b="1" lang="sl-SI" sz="2100" spc="-1" strike="noStrike">
                <a:solidFill>
                  <a:srgbClr val="003278"/>
                </a:solidFill>
                <a:latin typeface="Times New Roman"/>
              </a:rPr>
              <a:t>&lt;number&gt;</a:t>
            </a:fld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body"/>
          </p:nvPr>
        </p:nvSpPr>
        <p:spPr>
          <a:xfrm>
            <a:off x="971280" y="1915920"/>
            <a:ext cx="784836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14" descr="pasica3"/>
          <p:cNvPicPr/>
          <p:nvPr/>
        </p:nvPicPr>
        <p:blipFill>
          <a:blip r:embed="rId2"/>
          <a:stretch/>
        </p:blipFill>
        <p:spPr>
          <a:xfrm>
            <a:off x="250920" y="71280"/>
            <a:ext cx="453960" cy="6724800"/>
          </a:xfrm>
          <a:prstGeom prst="rect">
            <a:avLst/>
          </a:prstGeom>
          <a:ln w="0">
            <a:noFill/>
          </a:ln>
        </p:spPr>
      </p:pic>
      <p:sp>
        <p:nvSpPr>
          <p:cNvPr id="5" name="Line 15"/>
          <p:cNvSpPr/>
          <p:nvPr/>
        </p:nvSpPr>
        <p:spPr>
          <a:xfrm>
            <a:off x="1042920" y="6381720"/>
            <a:ext cx="7705800" cy="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4" descr="pasica4"/>
          <p:cNvPicPr/>
          <p:nvPr/>
        </p:nvPicPr>
        <p:blipFill>
          <a:blip r:embed="rId2"/>
          <a:stretch/>
        </p:blipFill>
        <p:spPr>
          <a:xfrm>
            <a:off x="395280" y="71280"/>
            <a:ext cx="690480" cy="6699240"/>
          </a:xfrm>
          <a:prstGeom prst="rect">
            <a:avLst/>
          </a:prstGeom>
          <a:ln w="0">
            <a:noFill/>
          </a:ln>
        </p:spPr>
      </p:pic>
      <p:sp>
        <p:nvSpPr>
          <p:cNvPr id="43" name="Line 15"/>
          <p:cNvSpPr/>
          <p:nvPr/>
        </p:nvSpPr>
        <p:spPr>
          <a:xfrm>
            <a:off x="1476360" y="4149720"/>
            <a:ext cx="7272360" cy="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17" descr="naziv2"/>
          <p:cNvPicPr/>
          <p:nvPr/>
        </p:nvPicPr>
        <p:blipFill>
          <a:blip r:embed="rId3"/>
          <a:stretch/>
        </p:blipFill>
        <p:spPr>
          <a:xfrm>
            <a:off x="1403280" y="539640"/>
            <a:ext cx="1849680" cy="9730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784836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27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278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971280" y="1915920"/>
            <a:ext cx="784836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bebras.org/" TargetMode="External"/><Relationship Id="rId2" Type="http://schemas.openxmlformats.org/officeDocument/2006/relationships/hyperlink" Target="http://bober.fri.uni-lj.si/" TargetMode="Externa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acm.org/education/education/curric_vols/CC2005-March06Final.pdf" TargetMode="External"/><Relationship Id="rId2" Type="http://schemas.openxmlformats.org/officeDocument/2006/relationships/hyperlink" Target="http://www.acm.org/education/curricula-recommendations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oinformatics.org/" TargetMode="External"/><Relationship Id="rId2" Type="http://schemas.openxmlformats.org/officeDocument/2006/relationships/hyperlink" Target="http://ceoi2011.mimuw.edu.pl/" TargetMode="External"/><Relationship Id="rId3" Type="http://schemas.openxmlformats.org/officeDocument/2006/relationships/hyperlink" Target="http://ceoi2011.mimuw.edu.pl/" TargetMode="Externa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acm.math.spbu.ru/~snark/ioi/index.cgi?data=stat/pplwinners&amp;class=ioi2011&amp;year=2011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94920" y="3962160"/>
            <a:ext cx="7417080" cy="251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278"/>
                </a:solidFill>
                <a:latin typeface="Arial"/>
              </a:rPr>
              <a:t> </a:t>
            </a:r>
            <a:br>
              <a:rPr sz="3600"/>
            </a:br>
            <a:br>
              <a:rPr sz="3600"/>
            </a:br>
            <a:br>
              <a:rPr sz="2200"/>
            </a:br>
            <a:r>
              <a:rPr b="1" lang="en-US" sz="3600" spc="-1" strike="noStrike">
                <a:solidFill>
                  <a:srgbClr val="003278"/>
                </a:solidFill>
                <a:latin typeface="Arial"/>
              </a:rPr>
              <a:t> </a:t>
            </a:r>
            <a:br>
              <a:rPr sz="3600"/>
            </a:br>
            <a:br>
              <a:rPr sz="3600"/>
            </a:br>
            <a:endParaRPr b="1" lang="en-US" sz="3600" spc="-1" strike="noStrike">
              <a:solidFill>
                <a:srgbClr val="003278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32000" y="4149720"/>
            <a:ext cx="741672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Računalništvo in informatika j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Andrej Brodnik, UL FRI,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andrej.brodnik@fri.uni-lj.si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5" descr="gl-logo-FRI-portrait.pdf"/>
          <p:cNvPicPr/>
          <p:nvPr/>
        </p:nvPicPr>
        <p:blipFill>
          <a:blip r:embed="rId1"/>
          <a:stretch/>
        </p:blipFill>
        <p:spPr>
          <a:xfrm>
            <a:off x="6477120" y="228600"/>
            <a:ext cx="2479680" cy="1752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784836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3278"/>
                </a:solidFill>
                <a:latin typeface="Arial"/>
              </a:rPr>
              <a:t>Tekmovanje </a:t>
            </a:r>
            <a:r>
              <a:rPr b="1" i="1" lang="sl-SI" sz="3200" spc="-1" strike="noStrike">
                <a:solidFill>
                  <a:srgbClr val="003278"/>
                </a:solidFill>
                <a:latin typeface="Arial"/>
              </a:rPr>
              <a:t>Bober</a:t>
            </a:r>
            <a:endParaRPr b="1" lang="en-US" sz="3200" spc="-1" strike="noStrike">
              <a:solidFill>
                <a:srgbClr val="003278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971280" y="1915920"/>
            <a:ext cx="784836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Bober, Mednarodno tekmovanje iz izurjenosti v računalništvu in informatiki (</a:t>
            </a:r>
            <a:r>
              <a:rPr b="0" i="1" lang="sl-SI" sz="2100" spc="-1" strike="noStrike">
                <a:solidFill>
                  <a:srgbClr val="000000"/>
                </a:solidFill>
                <a:latin typeface="Arial"/>
              </a:rPr>
              <a:t>Bebras, International Contest on Information and Computer Fluency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sl-SI" sz="21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bebras.org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namenjeno osnovnošolcem in srednješolcem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naloge podobne tekmovanju Kenguru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naloge se izberejo na programskem srečanju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nekaj nalog je obveznih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Slovenija sodeluje od 2010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sl-SI" sz="21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bober.fri.uni-lj.si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Footer Placeholder 3"/>
          <p:cNvSpPr/>
          <p:nvPr/>
        </p:nvSpPr>
        <p:spPr>
          <a:xfrm>
            <a:off x="971640" y="6237360"/>
            <a:ext cx="6264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278"/>
                </a:solidFill>
                <a:latin typeface="Arial"/>
              </a:rPr>
              <a:t>Andrej Brodnik: Računalništvo in informatika je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lide Number Placeholder 4"/>
          <p:cNvSpPr/>
          <p:nvPr/>
        </p:nvSpPr>
        <p:spPr>
          <a:xfrm>
            <a:off x="7667640" y="6308640"/>
            <a:ext cx="11523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BBB02-954D-4F06-8F21-F2FE970433FC}" type="slidenum">
              <a:rPr b="1" lang="sl-SI" sz="2100" spc="-1" strike="noStrike">
                <a:solidFill>
                  <a:srgbClr val="003278"/>
                </a:solidFill>
                <a:latin typeface="Arial"/>
              </a:rPr>
              <a:t>&lt;number&gt;</a:t>
            </a:fld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784836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3278"/>
                </a:solidFill>
                <a:latin typeface="Arial"/>
              </a:rPr>
              <a:t>RIN ni samo RIN</a:t>
            </a:r>
            <a:endParaRPr b="1" lang="en-US" sz="3200" spc="-1" strike="noStrike">
              <a:solidFill>
                <a:srgbClr val="003278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971280" y="1915920"/>
            <a:ext cx="784836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tekmovanja so samo vrh piramide, ki lahko nastane in gradi na široki osnovi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pomembna jo izboljšati splošno znanje RI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29% podjetij z 10 ali več zaposlenimi osebami, ki so v letu 2005 zaposlovali osebe, za katere se zahteva računalniško znanje, je pri tem naletelo na težave. Največ teh podjetij, 70%, je imelo težave zaradi pomanjkanja oseb z ustreznim znanjem uporabe računalnika oz. programov, 53% jih je imelo težave zaradi pomanjkanja informatikov (Kačič, 2006)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. Tomazin in A. Brodnik. Učni cilji pouka računalništva v osnovni šoli – slovenski in ACM K12 kurikulum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Footer Placeholder 3"/>
          <p:cNvSpPr/>
          <p:nvPr/>
        </p:nvSpPr>
        <p:spPr>
          <a:xfrm>
            <a:off x="971640" y="6237360"/>
            <a:ext cx="6264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278"/>
                </a:solidFill>
                <a:latin typeface="Arial"/>
              </a:rPr>
              <a:t>Andrej Brodnik: Računalništvo in informatika je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4"/>
          <p:cNvSpPr/>
          <p:nvPr/>
        </p:nvSpPr>
        <p:spPr>
          <a:xfrm>
            <a:off x="7667640" y="6308640"/>
            <a:ext cx="11523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392D4-327F-4F94-A9D9-D31AAF92EAF8}" type="slidenum">
              <a:rPr b="1" lang="sl-SI" sz="2100" spc="-1" strike="noStrike">
                <a:solidFill>
                  <a:srgbClr val="003278"/>
                </a:solidFill>
                <a:latin typeface="Arial"/>
              </a:rPr>
              <a:t>&lt;number&gt;</a:t>
            </a:fld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784836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3278"/>
                </a:solidFill>
                <a:latin typeface="Arial"/>
              </a:rPr>
              <a:t>RIN ni samo RIN </a:t>
            </a:r>
            <a:r>
              <a:rPr b="1" lang="sl-SI" sz="2800" spc="-1" strike="noStrike">
                <a:solidFill>
                  <a:srgbClr val="003278"/>
                </a:solidFill>
                <a:latin typeface="Arial"/>
              </a:rPr>
              <a:t>(nadalj.)</a:t>
            </a:r>
            <a:endParaRPr b="1" lang="en-US" sz="2800" spc="-1" strike="noStrike">
              <a:solidFill>
                <a:srgbClr val="003278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971280" y="1915920"/>
            <a:ext cx="784836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gospodarstvo in znanost sta močno odvisna od RI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inženirstvo (strojništvo, gradbeništvo, ...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znanosti (sistemska kemija, bioinformatika, fizika, ...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družboslovje (ekonomija, sociologija, ...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humanistika (jezikoslovje, muzikologija, teologija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medicina, špor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učinkovitost dela je odvisna od </a:t>
            </a:r>
            <a:r>
              <a:rPr b="1" lang="sl-SI" sz="2100" spc="-1" strike="noStrike">
                <a:solidFill>
                  <a:srgbClr val="ff0000"/>
                </a:solidFill>
                <a:latin typeface="Arial"/>
              </a:rPr>
              <a:t>računalniške pismenosti v najširšem pomenu besed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edino splošna šola (osnovna, srednja) lahko dâ takšno pismenos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Footer Placeholder 3"/>
          <p:cNvSpPr/>
          <p:nvPr/>
        </p:nvSpPr>
        <p:spPr>
          <a:xfrm>
            <a:off x="971640" y="6237360"/>
            <a:ext cx="6264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278"/>
                </a:solidFill>
                <a:latin typeface="Arial"/>
              </a:rPr>
              <a:t>Andrej Brodnik: Računalništvo in informatika je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lide Number Placeholder 4"/>
          <p:cNvSpPr/>
          <p:nvPr/>
        </p:nvSpPr>
        <p:spPr>
          <a:xfrm>
            <a:off x="7667640" y="6308640"/>
            <a:ext cx="11523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45DCA-056E-44C1-855B-78E84351A840}" type="slidenum">
              <a:rPr b="1" lang="sl-SI" sz="2100" spc="-1" strike="noStrike">
                <a:solidFill>
                  <a:srgbClr val="003278"/>
                </a:solidFill>
                <a:latin typeface="Arial"/>
              </a:rPr>
              <a:t>&lt;number&gt;</a:t>
            </a:fld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784836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3278"/>
                </a:solidFill>
                <a:latin typeface="Arial"/>
              </a:rPr>
              <a:t>RIN in (slovenski) izobraževalni sistem</a:t>
            </a:r>
            <a:endParaRPr b="1" lang="en-US" sz="3200" spc="-1" strike="noStrike">
              <a:solidFill>
                <a:srgbClr val="003278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971280" y="1915920"/>
            <a:ext cx="784836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Bela knjiga 2011 (BK),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odročna strokovna skupina za načela v vzgoji in izobraževanju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Zaradi odvisnosti uspešnosti družb znanja od stopnje integracije IKT v njihovo delovanje in od razširjenosti ustvarjalne uporabe med ljudmi bo izobraževanje za družbo znanja moralo poskrbeti za dvig ravni tehnološke kulture vseh njenih članov in za primerno javno tehnološko infrastrukturo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v BK ni predloga implementacije zgornjega načela niti v PSS za osnovno šolo niti v PSS za srednjo šol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ooter Placeholder 3"/>
          <p:cNvSpPr/>
          <p:nvPr/>
        </p:nvSpPr>
        <p:spPr>
          <a:xfrm>
            <a:off x="971640" y="6237360"/>
            <a:ext cx="6264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278"/>
                </a:solidFill>
                <a:latin typeface="Arial"/>
              </a:rPr>
              <a:t>Andrej Brodnik: Računalništvo in informatika je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lide Number Placeholder 4"/>
          <p:cNvSpPr/>
          <p:nvPr/>
        </p:nvSpPr>
        <p:spPr>
          <a:xfrm>
            <a:off x="7667640" y="6308640"/>
            <a:ext cx="11523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E4E2C-73E6-4107-B5E7-321A8F1A603A}" type="slidenum">
              <a:rPr b="1" lang="sl-SI" sz="2100" spc="-1" strike="noStrike">
                <a:solidFill>
                  <a:srgbClr val="003278"/>
                </a:solidFill>
                <a:latin typeface="Arial"/>
              </a:rPr>
              <a:t>&lt;number&gt;</a:t>
            </a:fld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784836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3278"/>
                </a:solidFill>
                <a:latin typeface="Arial"/>
              </a:rPr>
              <a:t>UNESCO IFIP RIN kurikulum</a:t>
            </a:r>
            <a:endParaRPr b="1" lang="en-US" sz="3200" spc="-1" strike="noStrike">
              <a:solidFill>
                <a:srgbClr val="003278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971280" y="1915920"/>
            <a:ext cx="784836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Information and Communication Technology in Secondary Education – A Curriculum for School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http://wwwedu.ge.ch/cptic/prospective/projets/unesco/en/welcome.html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štirje sklopi razdeljenih na module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KT pismenos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uporaba IKT na drugih področjih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ntegracija IKT v druge kurikulum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0000"/>
                </a:solidFill>
                <a:latin typeface="Arial"/>
              </a:rPr>
              <a:t>IKT: </a:t>
            </a:r>
            <a:r>
              <a:rPr b="0" i="1" lang="en-US" sz="2100" spc="-1" strike="noStrike">
                <a:solidFill>
                  <a:srgbClr val="ff0000"/>
                </a:solidFill>
                <a:latin typeface="Arial"/>
              </a:rPr>
              <a:t>uvod v programiranje; načrtovanje programov od zgoraj navzdol; osnovo programiranja in razvoja programja; zahtevnejši elementi programiranja; poslovni informacijski sistemi; nadzor procesov; vodenje projektov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Footer Placeholder 3"/>
          <p:cNvSpPr/>
          <p:nvPr/>
        </p:nvSpPr>
        <p:spPr>
          <a:xfrm>
            <a:off x="971640" y="6237360"/>
            <a:ext cx="6264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278"/>
                </a:solidFill>
                <a:latin typeface="Arial"/>
              </a:rPr>
              <a:t>Andrej Brodnik: Računalništvo in informatika je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lide Number Placeholder 4"/>
          <p:cNvSpPr/>
          <p:nvPr/>
        </p:nvSpPr>
        <p:spPr>
          <a:xfrm>
            <a:off x="7667640" y="6308640"/>
            <a:ext cx="11523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69DE7-DBCD-4571-8240-29E3554E1DAC}" type="slidenum">
              <a:rPr b="1" lang="sl-SI" sz="2100" spc="-1" strike="noStrike">
                <a:solidFill>
                  <a:srgbClr val="003278"/>
                </a:solidFill>
                <a:latin typeface="Arial"/>
              </a:rPr>
              <a:t>&lt;number&gt;</a:t>
            </a:fld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784836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3278"/>
                </a:solidFill>
                <a:latin typeface="Arial"/>
              </a:rPr>
              <a:t>ACM K12 RIN kurikulum</a:t>
            </a:r>
            <a:endParaRPr b="1" lang="en-US" sz="3200" spc="-1" strike="noStrike">
              <a:solidFill>
                <a:srgbClr val="003278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971280" y="1371600"/>
            <a:ext cx="7848360" cy="486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zasnovan kot obvezni predmet od vrtca do konca srednje šol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http://csta.acm.org/Curriculum/sub/ACMK12CSModel.html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»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Računalništvo je proučevanje računalnikov in algoritmičnih procesov, vključno z njihovimi temelji, njihovo strojno opremo in sestavo programske opreme, njihovo uporabo in njihov vpliv na družbo.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«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sebin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gramiranje; načrtovanje strojne opreme; omrežja; grafika; baze podatkov in pridobitev podatkov iz teh; računalniška varnost; načrtovanje programske opreme; programski jeziki; logika; programerske paradigme; prehodi med različnimi stopnjami abstrakcije; umetna inteligenca; meje izračunljivosti (česa računalniki ne zmorejo); programi v informacijski tehnologiji in informacijskih sistemih; družbena vprašanja (varnost interneta, zasebnost, intelektualna lastnina, it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Footer Placeholder 3"/>
          <p:cNvSpPr/>
          <p:nvPr/>
        </p:nvSpPr>
        <p:spPr>
          <a:xfrm>
            <a:off x="971640" y="6237360"/>
            <a:ext cx="6264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278"/>
                </a:solidFill>
                <a:latin typeface="Arial"/>
              </a:rPr>
              <a:t>Andrej Brodnik: Računalništvo in informatika je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lide Number Placeholder 4"/>
          <p:cNvSpPr/>
          <p:nvPr/>
        </p:nvSpPr>
        <p:spPr>
          <a:xfrm>
            <a:off x="7667640" y="6308640"/>
            <a:ext cx="11523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7EC7C-17F9-48DA-9286-387DC16A0083}" type="slidenum">
              <a:rPr b="1" lang="sl-SI" sz="2100" spc="-1" strike="noStrike">
                <a:solidFill>
                  <a:srgbClr val="003278"/>
                </a:solidFill>
                <a:latin typeface="Arial"/>
              </a:rPr>
              <a:t>&lt;number&gt;</a:t>
            </a:fld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784836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3278"/>
                </a:solidFill>
                <a:latin typeface="Arial"/>
              </a:rPr>
              <a:t>ACM K12 RIN kurikulum </a:t>
            </a:r>
            <a:r>
              <a:rPr b="1" lang="sl-SI" sz="2800" spc="-1" strike="noStrike">
                <a:solidFill>
                  <a:srgbClr val="003278"/>
                </a:solidFill>
                <a:latin typeface="Arial"/>
              </a:rPr>
              <a:t>(nadalj.)</a:t>
            </a:r>
            <a:endParaRPr b="1" lang="en-US" sz="2800" spc="-1" strike="noStrike">
              <a:solidFill>
                <a:srgbClr val="003278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971280" y="1371600"/>
            <a:ext cx="7848360" cy="486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razdeljen na štiri zaporedne faze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003278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zumevanje računalniške znanosti in umestitve računalnika v sodobnem okolj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003278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oznanje, da računalništvo omogoča spoznavanje novih načel in pridobivanje novih spret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003278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osobnost uporabe računalniških spretnosti (predvsem algoritmičnega razmišljanja) tudi pri reševanju problemov iz drugh, ne naravoslovnih področij (npr. razumevanju semantike jezik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003278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polnitev drugih raznovrstnih kurikulumov za računalništvo v vsaki šoli, ki že ponuja pouk računalništ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M. Tomazin. Analiza učnih ciljev za pouk računalništva v osnovni šoli. Diplomsko delo, UP PEF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jasno opredeljeni učni cilji po vsaki fazi (triad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ooter Placeholder 3"/>
          <p:cNvSpPr/>
          <p:nvPr/>
        </p:nvSpPr>
        <p:spPr>
          <a:xfrm>
            <a:off x="971640" y="6237360"/>
            <a:ext cx="6264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278"/>
                </a:solidFill>
                <a:latin typeface="Arial"/>
              </a:rPr>
              <a:t>Andrej Brodnik: Računalništvo in informatika je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Slide Number Placeholder 4"/>
          <p:cNvSpPr/>
          <p:nvPr/>
        </p:nvSpPr>
        <p:spPr>
          <a:xfrm>
            <a:off x="7667640" y="6308640"/>
            <a:ext cx="11523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7A1E6-10CD-4E02-87C2-ED6DEB62C6AA}" type="slidenum">
              <a:rPr b="1" lang="sl-SI" sz="2100" spc="-1" strike="noStrike">
                <a:solidFill>
                  <a:srgbClr val="003278"/>
                </a:solidFill>
                <a:latin typeface="Arial"/>
              </a:rPr>
              <a:t>&lt;number&gt;</a:t>
            </a:fld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784836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3278"/>
                </a:solidFill>
                <a:latin typeface="Arial"/>
              </a:rPr>
              <a:t>IOI RIN kurikulum</a:t>
            </a:r>
            <a:endParaRPr b="1" lang="en-US" sz="3200" spc="-1" strike="noStrike">
              <a:solidFill>
                <a:srgbClr val="003278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971280" y="1915920"/>
            <a:ext cx="784836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The International Olympiad in Informatics Syllabus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http://people.ksp.sk/~misof/ioi-syllabus/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znanje, ki se pričakuje za reševanje nalog na IOI: teoretične osnove in inženirska znanj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vsebine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100" spc="-1" strike="noStrike">
                <a:solidFill>
                  <a:srgbClr val="000000"/>
                </a:solidFill>
                <a:latin typeface="Arial"/>
              </a:rPr>
              <a:t>teoretične osnove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: aritmetika in geometrija; diskretne strukture; osnovna logika; tehnike dokazovanja pravilnosti; principi števnosti; grafi in drevesa; ..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100" spc="-1" strike="noStrike">
                <a:solidFill>
                  <a:srgbClr val="000000"/>
                </a:solidFill>
                <a:latin typeface="Arial"/>
              </a:rPr>
              <a:t>inženirska znanja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: programske strukture; rekurzija; ..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100" spc="-1" strike="noStrike">
                <a:solidFill>
                  <a:srgbClr val="000000"/>
                </a:solidFill>
                <a:latin typeface="Arial"/>
              </a:rPr>
              <a:t>algoritmična zahtevnost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: ocena zahtevnosti; znani algoritmi; ..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Footer Placeholder 3"/>
          <p:cNvSpPr/>
          <p:nvPr/>
        </p:nvSpPr>
        <p:spPr>
          <a:xfrm>
            <a:off x="971640" y="6237360"/>
            <a:ext cx="6264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278"/>
                </a:solidFill>
                <a:latin typeface="Arial"/>
              </a:rPr>
              <a:t>Andrej Brodnik: Računalništvo in informatika je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Slide Number Placeholder 4"/>
          <p:cNvSpPr/>
          <p:nvPr/>
        </p:nvSpPr>
        <p:spPr>
          <a:xfrm>
            <a:off x="7667640" y="6308640"/>
            <a:ext cx="11523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48D9A-5198-46EF-A8FA-BF7F366DE39D}" type="slidenum">
              <a:rPr b="1" lang="sl-SI" sz="2100" spc="-1" strike="noStrike">
                <a:solidFill>
                  <a:srgbClr val="003278"/>
                </a:solidFill>
                <a:latin typeface="Arial"/>
              </a:rPr>
              <a:t>&lt;number&gt;</a:t>
            </a:fld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784836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3278"/>
                </a:solidFill>
                <a:latin typeface="Arial"/>
              </a:rPr>
              <a:t>ACM K12 / UNESCO IFIP RIN kurikulum</a:t>
            </a:r>
            <a:endParaRPr b="1" lang="en-US" sz="3200" spc="-1" strike="noStrike">
              <a:solidFill>
                <a:srgbClr val="003278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971280" y="1371600"/>
            <a:ext cx="7848360" cy="486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na UP PEF in OŠ Koper izveden polletni krožek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Zgodnje učenje računalništva in informatike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za 5. razred v okviru predmeta </a:t>
            </a:r>
            <a:r>
              <a:rPr b="0" i="1" lang="sl-SI" sz="2100" spc="-1" strike="noStrike">
                <a:solidFill>
                  <a:srgbClr val="000000"/>
                </a:solidFill>
                <a:latin typeface="Arial"/>
              </a:rPr>
              <a:t>Didaktika računalništv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https://e.famnit.upr.si/course/view.php?id=287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obravnavane učne enote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Komuniciranje in računalnik; Naš delovni prostor; Operacijski sistem računalnika; Vhodne in izhodne naprave; Kaj sestavlja računalnik; Vhodne in izhodne naprave; Tipkanje; Komuniciranje; Podatki in informacije; Urejevalnik besedil; Edubuntu; Prvo delo z računalnikom - učenje rokovanja z miško in tipkovnico; Scratch; Ali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Footer Placeholder 3"/>
          <p:cNvSpPr/>
          <p:nvPr/>
        </p:nvSpPr>
        <p:spPr>
          <a:xfrm>
            <a:off x="971640" y="6237360"/>
            <a:ext cx="6264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278"/>
                </a:solidFill>
                <a:latin typeface="Arial"/>
              </a:rPr>
              <a:t>Andrej Brodnik: Računalništvo in informatika je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4"/>
          <p:cNvSpPr/>
          <p:nvPr/>
        </p:nvSpPr>
        <p:spPr>
          <a:xfrm>
            <a:off x="7667640" y="6308640"/>
            <a:ext cx="11523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ABC58-E51B-4A1F-B955-70149FB5913E}" type="slidenum">
              <a:rPr b="1" lang="sl-SI" sz="2100" spc="-1" strike="noStrike">
                <a:solidFill>
                  <a:srgbClr val="003278"/>
                </a:solidFill>
                <a:latin typeface="Arial"/>
              </a:rPr>
              <a:t>&lt;number&gt;</a:t>
            </a:fld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784836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3278"/>
                </a:solidFill>
                <a:latin typeface="Arial"/>
              </a:rPr>
              <a:t>ACM K12 RIN in IOI kurikulum</a:t>
            </a:r>
            <a:endParaRPr b="1" lang="en-US" sz="3200" spc="-1" strike="noStrike">
              <a:solidFill>
                <a:srgbClr val="003278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971280" y="1371600"/>
            <a:ext cx="7848360" cy="486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na UL FRI izveden celoletni krožek: </a:t>
            </a:r>
            <a:r>
              <a:rPr b="0" i="1" lang="sl-SI" sz="2100" spc="-1" strike="noStrike">
                <a:solidFill>
                  <a:srgbClr val="000000"/>
                </a:solidFill>
                <a:latin typeface="Arial"/>
              </a:rPr>
              <a:t>Gimnazija Bežigrad, ŠC Srečka Kosovela Sežana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sl-SI" sz="2100" spc="-1" strike="noStrike">
                <a:solidFill>
                  <a:srgbClr val="000000"/>
                </a:solidFill>
                <a:latin typeface="Arial"/>
              </a:rPr>
              <a:t>Gimnazija Vič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sl-SI" sz="2100" spc="-1" strike="noStrike">
                <a:solidFill>
                  <a:srgbClr val="000000"/>
                </a:solidFill>
                <a:latin typeface="Arial"/>
              </a:rPr>
              <a:t>Škofijska klasična gimnazija Ljubljan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https://redmine.fri.uni-lj.si/projects/krozek, http://moodle.lrk.si/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) 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vsebine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osnovna skupina: programiranje v programskem jeziku </a:t>
            </a:r>
            <a:r>
              <a:rPr b="0" i="1" lang="sl-SI" sz="2100" spc="-1" strike="noStrike">
                <a:solidFill>
                  <a:srgbClr val="000000"/>
                </a:solidFill>
                <a:latin typeface="Arial"/>
              </a:rPr>
              <a:t>python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; izdelava spletne igrice (</a:t>
            </a:r>
            <a:r>
              <a:rPr b="0" i="1" lang="sl-SI" sz="2100" spc="-1" strike="noStrike">
                <a:solidFill>
                  <a:srgbClr val="000000"/>
                </a:solidFill>
                <a:latin typeface="Arial"/>
              </a:rPr>
              <a:t>potapljanje ladjic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sl-SI" sz="2100" spc="-1" strike="noStrike">
                <a:solidFill>
                  <a:srgbClr val="000000"/>
                </a:solidFill>
                <a:latin typeface="Arial"/>
              </a:rPr>
              <a:t>labirint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nadaljevalna skupina: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 nadaljevanje spoznavanja programiranja v programskem jeziku </a:t>
            </a:r>
            <a:r>
              <a:rPr b="0" i="1" lang="sl-SI" sz="2000" spc="-1" strike="noStrike">
                <a:solidFill>
                  <a:srgbClr val="000000"/>
                </a:solidFill>
                <a:latin typeface="Arial"/>
              </a:rPr>
              <a:t>python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; priprava na državno ACM tekmovanje v računalništvu in informatik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rtk.ijs.si/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rtk.fri.uni-lj.si/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Footer Placeholder 3"/>
          <p:cNvSpPr/>
          <p:nvPr/>
        </p:nvSpPr>
        <p:spPr>
          <a:xfrm>
            <a:off x="971640" y="6237360"/>
            <a:ext cx="6264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278"/>
                </a:solidFill>
                <a:latin typeface="Arial"/>
              </a:rPr>
              <a:t>Andrej Brodnik: Računalništvo in informatika je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lide Number Placeholder 4"/>
          <p:cNvSpPr/>
          <p:nvPr/>
        </p:nvSpPr>
        <p:spPr>
          <a:xfrm>
            <a:off x="7667640" y="6308640"/>
            <a:ext cx="11523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9A063-B941-4AFA-BFB6-278015399109}" type="slidenum">
              <a:rPr b="1" lang="sl-SI" sz="2100" spc="-1" strike="noStrike">
                <a:solidFill>
                  <a:srgbClr val="003278"/>
                </a:solidFill>
                <a:latin typeface="Arial"/>
              </a:rPr>
              <a:t>&lt;number&gt;</a:t>
            </a:fld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784836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3278"/>
                </a:solidFill>
                <a:latin typeface="Arial"/>
              </a:rPr>
              <a:t>Računalništvo in informatika</a:t>
            </a:r>
            <a:endParaRPr b="1" lang="en-US" sz="3200" spc="-1" strike="noStrike">
              <a:solidFill>
                <a:srgbClr val="003278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971280" y="1915920"/>
            <a:ext cx="784836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za področje obdelave podatkov (informacij) sta se oblikovala izraza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Computer Science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(angl.),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datavetenskap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datalogi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(šved.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informatique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(franc.),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Informatik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(nem.),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informatica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(ital.),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информатика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(rušč.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v slovenščini zaradi zgodovinskih okolišči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za disciplino nimamo enoznačnega enobesednega izraza: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računalništvo in informatiko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RIN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) – včasih okrajšujemo samo na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računalništvo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računalnikologija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– ?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delimo na tri podpodročja: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strojna oprema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rogramska oprema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in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informatik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Footer Placeholder 3"/>
          <p:cNvSpPr/>
          <p:nvPr/>
        </p:nvSpPr>
        <p:spPr>
          <a:xfrm>
            <a:off x="971640" y="6237360"/>
            <a:ext cx="6264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278"/>
                </a:solidFill>
                <a:latin typeface="Arial"/>
              </a:rPr>
              <a:t>Andrej Brodnik: Računalništvo in informatika je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lide Number Placeholder 4"/>
          <p:cNvSpPr/>
          <p:nvPr/>
        </p:nvSpPr>
        <p:spPr>
          <a:xfrm>
            <a:off x="7667640" y="6308640"/>
            <a:ext cx="11523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A0D2B-7608-4EE8-BAF1-B3EA2A18D914}" type="slidenum">
              <a:rPr b="1" lang="sl-SI" sz="2100" spc="-1" strike="noStrike">
                <a:solidFill>
                  <a:srgbClr val="003278"/>
                </a:solidFill>
                <a:latin typeface="Arial"/>
              </a:rPr>
              <a:t>&lt;number&gt;</a:t>
            </a:fld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784836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3278"/>
                </a:solidFill>
                <a:latin typeface="Arial"/>
              </a:rPr>
              <a:t>IOI kurikulum</a:t>
            </a:r>
            <a:endParaRPr b="1" lang="en-US" sz="3200" spc="-1" strike="noStrike">
              <a:solidFill>
                <a:srgbClr val="003278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971280" y="1371600"/>
            <a:ext cx="7848360" cy="486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na UL FRI izvedena poletne šole </a:t>
            </a:r>
            <a:r>
              <a:rPr b="0" i="1" lang="sl-SI" sz="2100" spc="-1" strike="noStrike">
                <a:solidFill>
                  <a:srgbClr val="000000"/>
                </a:solidFill>
                <a:latin typeface="Arial"/>
              </a:rPr>
              <a:t>Priprava na IOI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http://rtk.fri.uni-lj.si/course/view.php?id=8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obravnavane učne enote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Osnovne podatkovne strukture in algoritmi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goritmi na grafih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Požrešni algoritmi in dinamično programiranj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Računska geometrij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Kombinatorik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Številski algoritmi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Footer Placeholder 3"/>
          <p:cNvSpPr/>
          <p:nvPr/>
        </p:nvSpPr>
        <p:spPr>
          <a:xfrm>
            <a:off x="971640" y="6237360"/>
            <a:ext cx="6264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278"/>
                </a:solidFill>
                <a:latin typeface="Arial"/>
              </a:rPr>
              <a:t>Andrej Brodnik: Računalništvo in informatika je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4"/>
          <p:cNvSpPr/>
          <p:nvPr/>
        </p:nvSpPr>
        <p:spPr>
          <a:xfrm>
            <a:off x="7667640" y="6308640"/>
            <a:ext cx="11523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72A28-1E43-4186-A668-8C0CA0A431E3}" type="slidenum">
              <a:rPr b="1" lang="sl-SI" sz="2100" spc="-1" strike="noStrike">
                <a:solidFill>
                  <a:srgbClr val="003278"/>
                </a:solidFill>
                <a:latin typeface="Arial"/>
              </a:rPr>
              <a:t>&lt;number&gt;</a:t>
            </a:fld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784836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3278"/>
                </a:solidFill>
                <a:latin typeface="Arial"/>
              </a:rPr>
              <a:t>In kam sedaj ...</a:t>
            </a:r>
            <a:endParaRPr b="1" lang="en-US" sz="3200" spc="-1" strike="noStrike">
              <a:solidFill>
                <a:srgbClr val="003278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971280" y="1915920"/>
            <a:ext cx="784836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izboljšati splošno računalniško pismenos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pomoč učiteljem RIN – UL FRI se zaveda svoje vloge in odgovornosti =&gt; </a:t>
            </a:r>
            <a:r>
              <a:rPr b="1" i="1" lang="sl-SI" sz="2100" spc="-1" strike="noStrike">
                <a:solidFill>
                  <a:srgbClr val="000000"/>
                </a:solidFill>
                <a:latin typeface="Arial"/>
              </a:rPr>
              <a:t>dobrodošli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uvajanje RIN v osnovni šoli kot obvezni predme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76"/>
              </a:spcBef>
              <a:buClr>
                <a:srgbClr val="003278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900" spc="-1" strike="noStrike">
                <a:solidFill>
                  <a:srgbClr val="000000"/>
                </a:solidFill>
                <a:latin typeface="Arial"/>
              </a:rPr>
              <a:t>Slovaška, Avstrija, Nemčija, ..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razviti pedagoški program RIN s poudarkom na didaktiki RI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vseživljensko (do)izobraževanj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oblikovanje skupnosti učiteljev RI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sprememba kurikuluma RIN v osnovni in srednji šoli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voz lahko premaknemo </a:t>
            </a:r>
            <a:r>
              <a:rPr b="1" lang="sl-SI" sz="2100" spc="-1" strike="noStrike">
                <a:solidFill>
                  <a:srgbClr val="ff0000"/>
                </a:solidFill>
                <a:latin typeface="Arial"/>
              </a:rPr>
              <a:t>samo, če bomo sodelovali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Footer Placeholder 3"/>
          <p:cNvSpPr/>
          <p:nvPr/>
        </p:nvSpPr>
        <p:spPr>
          <a:xfrm>
            <a:off x="971640" y="6237360"/>
            <a:ext cx="6264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278"/>
                </a:solidFill>
                <a:latin typeface="Arial"/>
              </a:rPr>
              <a:t>Andrej Brodnik: Računalništvo in informatika je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lide Number Placeholder 4"/>
          <p:cNvSpPr/>
          <p:nvPr/>
        </p:nvSpPr>
        <p:spPr>
          <a:xfrm>
            <a:off x="7667640" y="6308640"/>
            <a:ext cx="11523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3983A-4B01-4CA3-88E1-D490221A8C32}" type="slidenum">
              <a:rPr b="1" lang="sl-SI" sz="2100" spc="-1" strike="noStrike">
                <a:solidFill>
                  <a:srgbClr val="003278"/>
                </a:solidFill>
                <a:latin typeface="Arial"/>
              </a:rPr>
              <a:t>&lt;number&gt;</a:t>
            </a:fld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784836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278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971280" y="1915920"/>
            <a:ext cx="784836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0000"/>
                </a:solidFill>
                <a:latin typeface="Arial"/>
              </a:rPr>
              <a:t>Hvala za pozorn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0000"/>
                </a:solidFill>
                <a:latin typeface="Arial"/>
              </a:rPr>
              <a:t>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0000"/>
                </a:solidFill>
                <a:latin typeface="Arial"/>
              </a:rPr>
              <a:t>dobrodošli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andrej.brodnik@fri.uni-lj.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Footer Placeholder 3"/>
          <p:cNvSpPr/>
          <p:nvPr/>
        </p:nvSpPr>
        <p:spPr>
          <a:xfrm>
            <a:off x="971640" y="6237360"/>
            <a:ext cx="6264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278"/>
                </a:solidFill>
                <a:latin typeface="Arial"/>
              </a:rPr>
              <a:t>Andrej Brodnik: Računalništvo in informatika je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lide Number Placeholder 4"/>
          <p:cNvSpPr/>
          <p:nvPr/>
        </p:nvSpPr>
        <p:spPr>
          <a:xfrm>
            <a:off x="7667640" y="6308640"/>
            <a:ext cx="11523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04911-C0C3-4AF6-A9DD-8466840A7479}" type="slidenum">
              <a:rPr b="1" lang="sl-SI" sz="2100" spc="-1" strike="noStrike">
                <a:solidFill>
                  <a:srgbClr val="003278"/>
                </a:solidFill>
                <a:latin typeface="Arial"/>
              </a:rPr>
              <a:t>&lt;number&gt;</a:t>
            </a:fld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784836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3278"/>
                </a:solidFill>
                <a:latin typeface="Arial"/>
              </a:rPr>
              <a:t>Tri podpodročja, ki jih ni več</a:t>
            </a:r>
            <a:endParaRPr b="1" lang="en-US" sz="3200" spc="-1" strike="noStrike">
              <a:solidFill>
                <a:srgbClr val="003278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971280" y="1523880"/>
            <a:ext cx="7848360" cy="43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pred letom 1990 smo delil RIN na podpodročja: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strojna oprema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rogramska oprema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in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informatik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(ACM, IEEE-CS. Computing Curricula 2005, str. 12. </a:t>
            </a:r>
            <a:r>
              <a:rPr b="0" lang="en-US" sz="21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acm.org/education/education/curric_vols/CC2005-March06Final.pdf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kasneje delimo RIN na usmerjenost (študija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računalniško inženirstvo (</a:t>
            </a:r>
            <a:r>
              <a:rPr b="0" i="1" lang="sl-SI" sz="2100" spc="-1" strike="noStrike">
                <a:solidFill>
                  <a:srgbClr val="000000"/>
                </a:solidFill>
                <a:latin typeface="Arial"/>
              </a:rPr>
              <a:t>Computer Engineering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sl-SI" sz="2100" spc="-1" strike="noStrike">
                <a:solidFill>
                  <a:srgbClr val="000000"/>
                </a:solidFill>
                <a:latin typeface="Arial"/>
              </a:rPr>
              <a:t>računalniška znanost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sl-SI" sz="2100" spc="-1" strike="noStrike">
                <a:solidFill>
                  <a:srgbClr val="000000"/>
                </a:solidFill>
                <a:latin typeface="Arial"/>
              </a:rPr>
              <a:t>Computer Science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sl-SI" sz="2100" spc="-1" strike="noStrike">
                <a:solidFill>
                  <a:srgbClr val="000000"/>
                </a:solidFill>
                <a:latin typeface="Arial"/>
              </a:rPr>
              <a:t>informacijski sistemi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sl-SI" sz="2100" spc="-1" strike="noStrike">
                <a:solidFill>
                  <a:srgbClr val="000000"/>
                </a:solidFill>
                <a:latin typeface="Arial"/>
              </a:rPr>
              <a:t>Information Science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sl-SI" sz="2100" spc="-1" strike="noStrike">
                <a:solidFill>
                  <a:srgbClr val="000000"/>
                </a:solidFill>
                <a:latin typeface="Arial"/>
              </a:rPr>
              <a:t>informacijske tehnologije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sl-SI" sz="2100" spc="-1" strike="noStrike">
                <a:solidFill>
                  <a:srgbClr val="000000"/>
                </a:solidFill>
                <a:latin typeface="Arial"/>
              </a:rPr>
              <a:t>Information Technology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sl-SI" sz="2100" spc="-1" strike="noStrike">
                <a:solidFill>
                  <a:srgbClr val="000000"/>
                </a:solidFill>
                <a:latin typeface="Arial"/>
              </a:rPr>
              <a:t>programsko inženirstvo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sl-SI" sz="2100" spc="-1" strike="noStrike">
                <a:solidFill>
                  <a:srgbClr val="000000"/>
                </a:solidFill>
                <a:latin typeface="Arial"/>
              </a:rPr>
              <a:t>Software Engineering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2100" spc="-1" strike="noStrike">
                <a:solidFill>
                  <a:srgbClr val="000000"/>
                </a:solidFill>
                <a:latin typeface="Arial"/>
              </a:rPr>
              <a:t>osnova vseh študijev je skupn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 algn="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(http://www.acm.org/education/curricula-recommendations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Footer Placeholder 3"/>
          <p:cNvSpPr/>
          <p:nvPr/>
        </p:nvSpPr>
        <p:spPr>
          <a:xfrm>
            <a:off x="971640" y="6237360"/>
            <a:ext cx="6264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278"/>
                </a:solidFill>
                <a:latin typeface="Arial"/>
              </a:rPr>
              <a:t>Andrej Brodnik: Računalništvo in informatika je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Slide Number Placeholder 4"/>
          <p:cNvSpPr/>
          <p:nvPr/>
        </p:nvSpPr>
        <p:spPr>
          <a:xfrm>
            <a:off x="7667640" y="6308640"/>
            <a:ext cx="11523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62E9D-FB29-4907-9E50-8B907F028839}" type="slidenum">
              <a:rPr b="1" lang="sl-SI" sz="2100" spc="-1" strike="noStrike">
                <a:solidFill>
                  <a:srgbClr val="003278"/>
                </a:solidFill>
                <a:latin typeface="Arial"/>
              </a:rPr>
              <a:t>&lt;number&gt;</a:t>
            </a:fld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784836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3278"/>
                </a:solidFill>
                <a:latin typeface="Arial"/>
              </a:rPr>
              <a:t>Mednarodna olimpijada iz RIN</a:t>
            </a:r>
            <a:endParaRPr b="1" lang="en-US" sz="3200" spc="-1" strike="noStrike">
              <a:solidFill>
                <a:srgbClr val="003278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838080" y="1447560"/>
            <a:ext cx="798192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Mednarodna olimpijada iz RIN (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International Olympiad in Informatics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) je ena od petih UNESCO akademskih olimpijad za srednješol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ioinformatics.org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po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leg IOI obstajajo regionalne in nacionalne olimpijade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Srednjeevropska olimpijada (</a:t>
            </a:r>
            <a:r>
              <a:rPr b="0" i="1" lang="sl-SI" sz="2100" spc="-1" strike="noStrike">
                <a:solidFill>
                  <a:srgbClr val="000000"/>
                </a:solidFill>
                <a:latin typeface="Arial"/>
              </a:rPr>
              <a:t>CEOI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), Slovenija (ponovno) sodeluje od 2011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ttp://ceoi2011.mimuw.edu.pl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Footer Placeholder 3"/>
          <p:cNvSpPr/>
          <p:nvPr/>
        </p:nvSpPr>
        <p:spPr>
          <a:xfrm>
            <a:off x="971640" y="6237360"/>
            <a:ext cx="6264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278"/>
                </a:solidFill>
                <a:latin typeface="Arial"/>
              </a:rPr>
              <a:t>Andrej Brodnik: Računalništvo in informatika je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Slide Number Placeholder 4"/>
          <p:cNvSpPr/>
          <p:nvPr/>
        </p:nvSpPr>
        <p:spPr>
          <a:xfrm>
            <a:off x="7667640" y="6308640"/>
            <a:ext cx="11523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0393E-8D9E-468F-9CE4-C7ABF770F133}" type="slidenum">
              <a:rPr b="1" lang="sl-SI" sz="2100" spc="-1" strike="noStrike">
                <a:solidFill>
                  <a:srgbClr val="003278"/>
                </a:solidFill>
                <a:latin typeface="Arial"/>
              </a:rPr>
              <a:t>&lt;number&gt;</a:t>
            </a:fld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784836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3278"/>
                </a:solidFill>
                <a:latin typeface="Arial"/>
              </a:rPr>
              <a:t>Mednarodna olimpijada iz RIN </a:t>
            </a:r>
            <a:r>
              <a:rPr b="1" lang="sl-SI" sz="2800" spc="-1" strike="noStrike">
                <a:solidFill>
                  <a:srgbClr val="003278"/>
                </a:solidFill>
                <a:latin typeface="Arial"/>
              </a:rPr>
              <a:t>(nadalj.)</a:t>
            </a:r>
            <a:endParaRPr b="1" lang="en-US" sz="2800" spc="-1" strike="noStrike">
              <a:solidFill>
                <a:srgbClr val="003278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838080" y="1447560"/>
            <a:ext cx="798192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nekateri zmagovalci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acm.math.spbu.ru/~snark/ioi/index.cgi?data=stat/pplwinners&amp;class=ioi2011&amp;year=2011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than Bronson(1992) – Stanford Univers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du-Lucian Lupsa (1993) – Babes-Bolyai University, Clu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ábor Kovács (1994) - Budapest University of Technology and Econom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Daniel Kral (1996) – Karlova univerz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nis Sermulins (1997) – M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niel Wight (1998) – Villanova Univers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Hong Chen (1999) – Amazon (?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ooter Placeholder 3"/>
          <p:cNvSpPr/>
          <p:nvPr/>
        </p:nvSpPr>
        <p:spPr>
          <a:xfrm>
            <a:off x="971640" y="6237360"/>
            <a:ext cx="6264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278"/>
                </a:solidFill>
                <a:latin typeface="Arial"/>
              </a:rPr>
              <a:t>Andrej Brodnik: Računalništvo in informatika je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Slide Number Placeholder 4"/>
          <p:cNvSpPr/>
          <p:nvPr/>
        </p:nvSpPr>
        <p:spPr>
          <a:xfrm>
            <a:off x="7667640" y="6308640"/>
            <a:ext cx="11523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5F5E3-15EF-4851-B719-705200EC57DC}" type="slidenum">
              <a:rPr b="1" lang="sl-SI" sz="2100" spc="-1" strike="noStrike">
                <a:solidFill>
                  <a:srgbClr val="003278"/>
                </a:solidFill>
                <a:latin typeface="Arial"/>
              </a:rPr>
              <a:t>&lt;number&gt;</a:t>
            </a:fld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784836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3278"/>
                </a:solidFill>
                <a:latin typeface="Arial"/>
              </a:rPr>
              <a:t>Dosedanje olimpijade</a:t>
            </a:r>
            <a:endParaRPr b="1" lang="en-US" sz="3200" spc="-1" strike="noStrike">
              <a:solidFill>
                <a:srgbClr val="003278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971280" y="1523880"/>
            <a:ext cx="3676680" cy="43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89 - Bolgari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90 - Belorusi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91 - Grči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92 - Nemči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93 - Argent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94 - Šveds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95 - Nizozems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96 - Madžars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97 - Južna Afri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98 - Portugals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99 - Turči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00 - Kitajs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Footer Placeholder 3"/>
          <p:cNvSpPr/>
          <p:nvPr/>
        </p:nvSpPr>
        <p:spPr>
          <a:xfrm>
            <a:off x="971640" y="6237360"/>
            <a:ext cx="6264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278"/>
                </a:solidFill>
                <a:latin typeface="Arial"/>
              </a:rPr>
              <a:t>Andrej Brodnik: Računalništvo in informatika je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lide Number Placeholder 4"/>
          <p:cNvSpPr/>
          <p:nvPr/>
        </p:nvSpPr>
        <p:spPr>
          <a:xfrm>
            <a:off x="7667640" y="6308640"/>
            <a:ext cx="11523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FBDDD-9B0F-4073-9A07-0285A5DF468E}" type="slidenum">
              <a:rPr b="1" lang="sl-SI" sz="2100" spc="-1" strike="noStrike">
                <a:solidFill>
                  <a:srgbClr val="003278"/>
                </a:solidFill>
                <a:latin typeface="Arial"/>
              </a:rPr>
              <a:t>&lt;number&gt;</a:t>
            </a:fld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Content Placeholder 2"/>
          <p:cNvSpPr/>
          <p:nvPr/>
        </p:nvSpPr>
        <p:spPr>
          <a:xfrm>
            <a:off x="4952880" y="1523880"/>
            <a:ext cx="3676680" cy="432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2001 - Finsk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2002 - Južna Korej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2003 - ZD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2004 - Grčij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2005 - Poljsk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2006 - Mehik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2007 - Hrvašk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2008 - Egip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2009 - Bolgarij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2010 - Kanad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2011 - Tajsk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2012 - Italij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784836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3278"/>
                </a:solidFill>
                <a:latin typeface="Arial"/>
              </a:rPr>
              <a:t>Dosedanje olimpijade </a:t>
            </a:r>
            <a:r>
              <a:rPr b="1" lang="sl-SI" sz="2800" spc="-1" strike="noStrike">
                <a:solidFill>
                  <a:srgbClr val="003278"/>
                </a:solidFill>
                <a:latin typeface="Arial"/>
              </a:rPr>
              <a:t>(nadalj.)</a:t>
            </a:r>
            <a:endParaRPr b="1" lang="en-US" sz="2800" spc="-1" strike="noStrike">
              <a:solidFill>
                <a:srgbClr val="003278"/>
              </a:solidFill>
              <a:latin typeface="Arial"/>
            </a:endParaRPr>
          </a:p>
        </p:txBody>
      </p:sp>
      <p:sp>
        <p:nvSpPr>
          <p:cNvPr id="108" name="Footer Placeholder 3"/>
          <p:cNvSpPr/>
          <p:nvPr/>
        </p:nvSpPr>
        <p:spPr>
          <a:xfrm>
            <a:off x="971640" y="6237360"/>
            <a:ext cx="6264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278"/>
                </a:solidFill>
                <a:latin typeface="Arial"/>
              </a:rPr>
              <a:t>Andrej Brodnik: Računalništvo in informatika je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lide Number Placeholder 4"/>
          <p:cNvSpPr/>
          <p:nvPr/>
        </p:nvSpPr>
        <p:spPr>
          <a:xfrm>
            <a:off x="7667640" y="6308640"/>
            <a:ext cx="11523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314C7-6548-469B-B9FD-D7BDA8582CF0}" type="slidenum">
              <a:rPr b="1" lang="sl-SI" sz="2100" spc="-1" strike="noStrike">
                <a:solidFill>
                  <a:srgbClr val="003278"/>
                </a:solidFill>
                <a:latin typeface="Arial"/>
              </a:rPr>
              <a:t>&lt;number&gt;</a:t>
            </a:fld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5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556760" cy="488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784836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3278"/>
                </a:solidFill>
                <a:latin typeface="Arial"/>
              </a:rPr>
              <a:t>Slovenske uvrstitve na IOI</a:t>
            </a:r>
            <a:endParaRPr b="1" lang="en-US" sz="3200" spc="-1" strike="noStrike">
              <a:solidFill>
                <a:srgbClr val="003278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971280" y="1915920"/>
            <a:ext cx="784836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2011 – Tajska: (308 tekmovalcev, 79 držav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medalje: 1 bronasta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79. mesto – v 1/4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po skupnem številu točk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57. država – v 3/4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po povprečju na tekmovalca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58. država – v 3/4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samo najboljši tekmovalec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39. država – v 2/4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samo najslabši tekmovalec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56. država – v 3/4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Footer Placeholder 3"/>
          <p:cNvSpPr/>
          <p:nvPr/>
        </p:nvSpPr>
        <p:spPr>
          <a:xfrm>
            <a:off x="971640" y="6237360"/>
            <a:ext cx="6264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278"/>
                </a:solidFill>
                <a:latin typeface="Arial"/>
              </a:rPr>
              <a:t>Andrej Brodnik: Računalništvo in informatika je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lide Number Placeholder 4"/>
          <p:cNvSpPr/>
          <p:nvPr/>
        </p:nvSpPr>
        <p:spPr>
          <a:xfrm>
            <a:off x="7667640" y="6308640"/>
            <a:ext cx="11523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0ADF9-EB45-4FF7-B9E6-C8D4EC4B6C6E}" type="slidenum">
              <a:rPr b="1" lang="sl-SI" sz="2100" spc="-1" strike="noStrike">
                <a:solidFill>
                  <a:srgbClr val="003278"/>
                </a:solidFill>
                <a:latin typeface="Arial"/>
              </a:rPr>
              <a:t>&lt;number&gt;</a:t>
            </a:fld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784836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3278"/>
                </a:solidFill>
                <a:latin typeface="Arial"/>
              </a:rPr>
              <a:t>Slovenske uvrstitve na IOI </a:t>
            </a:r>
            <a:r>
              <a:rPr b="1" lang="sl-SI" sz="2800" spc="-1" strike="noStrike">
                <a:solidFill>
                  <a:srgbClr val="003278"/>
                </a:solidFill>
                <a:latin typeface="Arial"/>
              </a:rPr>
              <a:t>(nadalj.)</a:t>
            </a:r>
            <a:endParaRPr b="1" lang="en-US" sz="2800" spc="-1" strike="noStrike">
              <a:solidFill>
                <a:srgbClr val="003278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838080" y="1523880"/>
            <a:ext cx="3810240" cy="43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89 – Bolgarija: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N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90 – Belorusija: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N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91 – Grčija: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N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92 – Nemčija: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ni sodelova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93 – Argentina: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ni podat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94 – Švedska: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rez medal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95 – Nizozemska: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ni podat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96 – Madžarska: 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2 brona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97 - Južna Afrika: 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1 bronas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98 – Portugalska: 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1 bronas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99 – Turčija: 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1 bronas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00 – Kitajska: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ni podat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Footer Placeholder 3"/>
          <p:cNvSpPr/>
          <p:nvPr/>
        </p:nvSpPr>
        <p:spPr>
          <a:xfrm>
            <a:off x="971640" y="6237360"/>
            <a:ext cx="6264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278"/>
                </a:solidFill>
                <a:latin typeface="Arial"/>
              </a:rPr>
              <a:t>Andrej Brodnik: Računalništvo in informatika je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lide Number Placeholder 4"/>
          <p:cNvSpPr/>
          <p:nvPr/>
        </p:nvSpPr>
        <p:spPr>
          <a:xfrm>
            <a:off x="7667640" y="6308640"/>
            <a:ext cx="11523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8BC2B-C7B0-46D2-9D55-D6AADF257E47}" type="slidenum">
              <a:rPr b="1" lang="sl-SI" sz="2100" spc="-1" strike="noStrike">
                <a:solidFill>
                  <a:srgbClr val="003278"/>
                </a:solidFill>
                <a:latin typeface="Arial"/>
              </a:rPr>
              <a:t>&lt;number&gt;</a:t>
            </a:fld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Content Placeholder 2"/>
          <p:cNvSpPr/>
          <p:nvPr/>
        </p:nvSpPr>
        <p:spPr>
          <a:xfrm>
            <a:off x="4800600" y="1523880"/>
            <a:ext cx="4038480" cy="432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2001 – Finska: </a:t>
            </a:r>
            <a:r>
              <a:rPr b="0" i="1" lang="en-US" sz="2100" spc="-1" strike="noStrike" u="sng">
                <a:solidFill>
                  <a:srgbClr val="000000"/>
                </a:solidFill>
                <a:uFillTx/>
                <a:latin typeface="Arial"/>
              </a:rPr>
              <a:t>ni podatk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2002 - Južna Koreja: </a:t>
            </a:r>
            <a:r>
              <a:rPr b="0" i="1" lang="en-US" sz="2100" spc="-1" strike="noStrike" u="sng">
                <a:solidFill>
                  <a:srgbClr val="ff0000"/>
                </a:solidFill>
                <a:uFillTx/>
                <a:latin typeface="Arial"/>
              </a:rPr>
              <a:t>1 bronast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2003 – ZDA: </a:t>
            </a:r>
            <a:r>
              <a:rPr b="0" i="1" lang="en-US" sz="2100" spc="-1" strike="noStrike" u="sng">
                <a:solidFill>
                  <a:srgbClr val="ff0000"/>
                </a:solidFill>
                <a:uFillTx/>
                <a:latin typeface="Arial"/>
              </a:rPr>
              <a:t>3 bronast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2004 – Grčija: </a:t>
            </a:r>
            <a:r>
              <a:rPr b="0" i="1" lang="en-US" sz="2100" spc="-1" strike="noStrike" u="sng">
                <a:solidFill>
                  <a:srgbClr val="ff0000"/>
                </a:solidFill>
                <a:uFillTx/>
                <a:latin typeface="Arial"/>
              </a:rPr>
              <a:t>1 bronast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2005 – Poljska: </a:t>
            </a:r>
            <a:r>
              <a:rPr b="0" i="1" lang="en-US" sz="2100" spc="-1" strike="noStrike" u="sng">
                <a:solidFill>
                  <a:srgbClr val="000000"/>
                </a:solidFill>
                <a:uFillTx/>
                <a:latin typeface="Arial"/>
              </a:rPr>
              <a:t>ni podatk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2006 – Mehika: </a:t>
            </a:r>
            <a:r>
              <a:rPr b="0" i="1" lang="en-US" sz="2100" spc="-1" strike="noStrike" u="sng">
                <a:solidFill>
                  <a:srgbClr val="000000"/>
                </a:solidFill>
                <a:uFillTx/>
                <a:latin typeface="Arial"/>
              </a:rPr>
              <a:t>ni podatk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2007 – Hrvaška: </a:t>
            </a:r>
            <a:r>
              <a:rPr b="0" i="1" lang="en-US" sz="2100" spc="-1" strike="noStrike" u="sng">
                <a:solidFill>
                  <a:srgbClr val="ff0000"/>
                </a:solidFill>
                <a:uFillTx/>
                <a:latin typeface="Arial"/>
              </a:rPr>
              <a:t>1 bronast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2008 – Egipt: </a:t>
            </a:r>
            <a:r>
              <a:rPr b="0" i="1" lang="en-US" sz="2100" spc="-1" strike="noStrike" u="sng">
                <a:solidFill>
                  <a:srgbClr val="ff0000"/>
                </a:solidFill>
                <a:uFillTx/>
                <a:latin typeface="Arial"/>
              </a:rPr>
              <a:t>1 bronast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2009 – Bolgarija: </a:t>
            </a:r>
            <a:r>
              <a:rPr b="0" i="1" lang="en-US" sz="2100" spc="-1" strike="noStrike" u="sng">
                <a:solidFill>
                  <a:srgbClr val="000000"/>
                </a:solidFill>
                <a:uFillTx/>
                <a:latin typeface="Arial"/>
              </a:rPr>
              <a:t>brez medalj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2010 – Kanada: </a:t>
            </a:r>
            <a:r>
              <a:rPr b="0" i="1" lang="en-US" sz="2100" spc="-1" strike="noStrike" u="sng">
                <a:solidFill>
                  <a:srgbClr val="ff0000"/>
                </a:solidFill>
                <a:uFillTx/>
                <a:latin typeface="Arial"/>
              </a:rPr>
              <a:t>1 srebrn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2011 – Tajska: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sl-SI" sz="2100" spc="-1" strike="noStrike" u="sng">
                <a:solidFill>
                  <a:srgbClr val="ff0000"/>
                </a:solidFill>
                <a:uFillTx/>
                <a:latin typeface="Arial"/>
              </a:rPr>
              <a:t>1 bronast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4T06:40:18Z</dcterms:created>
  <dc:creator>Boris Divjak</dc:creator>
  <dc:description/>
  <dc:language>en-US</dc:language>
  <cp:lastModifiedBy>Andrej (Andy) Brodnik</cp:lastModifiedBy>
  <cp:lastPrinted>2011-08-23T08:47:25Z</cp:lastPrinted>
  <dcterms:modified xsi:type="dcterms:W3CDTF">2011-08-24T21:10:45Z</dcterms:modified>
  <cp:revision>217</cp:revision>
  <dc:subject/>
  <dc:title>Slide 1</dc:title>
</cp:coreProperties>
</file>