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B9E90-D88E-4FCD-9892-65C9BBFC9D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848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71280" y="4173120"/>
            <a:ext cx="7848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0FCBB-2A9A-4955-8144-22FA3C039E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7128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284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BEC8B-46A0-4BA5-AC57-813012947E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24840" y="19159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78400" y="19159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71280" y="41731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24840" y="41731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78400" y="41731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34DC0-6771-4C6E-A098-2B2DD598D3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71280" y="691920"/>
            <a:ext cx="784836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7128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6661A-5125-4D6D-B848-04EDFE3D17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9284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71280" y="4173120"/>
            <a:ext cx="7848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848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71280" y="4173120"/>
            <a:ext cx="7848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128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9284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24840" y="19159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78400" y="19159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71280" y="41731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24840" y="41731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78400" y="4173120"/>
            <a:ext cx="252684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07CE9-1912-425B-A1A6-98D5A59E18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30F0F-7079-4BB5-A816-9A0C3FBDAE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58653-FABA-425A-BC72-05ADABE568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71280" y="691920"/>
            <a:ext cx="7848360" cy="53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BDF5E-1DF8-4EB5-8A41-1D42A601BE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7128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582FD-28EF-477A-A045-542806ED5F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2840" y="41731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08E70-261A-47F0-8A5E-9E610592CF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28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2840" y="1915920"/>
            <a:ext cx="382968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71280" y="4173120"/>
            <a:ext cx="784836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B2C31-5E63-4D89-892C-90C23C6254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27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97128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327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Times New Roman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66728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l-SI" sz="2100" spc="-1" strike="noStrike">
                <a:solidFill>
                  <a:srgbClr val="0032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7631-BB29-4930-B8C0-9C9438D0D6E6}" type="slidenum">
              <a:rPr b="1" lang="sl-SI" sz="2100" spc="-1" strike="noStrike">
                <a:solidFill>
                  <a:srgbClr val="003278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4" descr="pasica3"/>
          <p:cNvPicPr/>
          <p:nvPr/>
        </p:nvPicPr>
        <p:blipFill>
          <a:blip r:embed="rId2"/>
          <a:stretch/>
        </p:blipFill>
        <p:spPr>
          <a:xfrm>
            <a:off x="250920" y="71280"/>
            <a:ext cx="453960" cy="6724800"/>
          </a:xfrm>
          <a:prstGeom prst="rect">
            <a:avLst/>
          </a:prstGeom>
          <a:ln w="0">
            <a:noFill/>
          </a:ln>
        </p:spPr>
      </p:pic>
      <p:sp>
        <p:nvSpPr>
          <p:cNvPr id="5" name="Line 15"/>
          <p:cNvSpPr/>
          <p:nvPr/>
        </p:nvSpPr>
        <p:spPr>
          <a:xfrm>
            <a:off x="1042920" y="6381720"/>
            <a:ext cx="770580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4" descr="pasica4"/>
          <p:cNvPicPr/>
          <p:nvPr/>
        </p:nvPicPr>
        <p:blipFill>
          <a:blip r:embed="rId2"/>
          <a:stretch/>
        </p:blipFill>
        <p:spPr>
          <a:xfrm>
            <a:off x="395280" y="71280"/>
            <a:ext cx="690480" cy="6699240"/>
          </a:xfrm>
          <a:prstGeom prst="rect">
            <a:avLst/>
          </a:prstGeom>
          <a:ln w="0">
            <a:noFill/>
          </a:ln>
        </p:spPr>
      </p:pic>
      <p:sp>
        <p:nvSpPr>
          <p:cNvPr id="43" name="Line 15"/>
          <p:cNvSpPr/>
          <p:nvPr/>
        </p:nvSpPr>
        <p:spPr>
          <a:xfrm>
            <a:off x="1476360" y="4149720"/>
            <a:ext cx="7272360" cy="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7" descr="naziv2"/>
          <p:cNvPicPr/>
          <p:nvPr/>
        </p:nvPicPr>
        <p:blipFill>
          <a:blip r:embed="rId3"/>
          <a:stretch/>
        </p:blipFill>
        <p:spPr>
          <a:xfrm>
            <a:off x="1403280" y="539640"/>
            <a:ext cx="1849680" cy="973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27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ebras.org/" TargetMode="External"/><Relationship Id="rId2" Type="http://schemas.openxmlformats.org/officeDocument/2006/relationships/hyperlink" Target="http://bober.fri.uni-lj.si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cm.org/education/education/curric_vols/CC2005-March06Final.pdf" TargetMode="External"/><Relationship Id="rId2" Type="http://schemas.openxmlformats.org/officeDocument/2006/relationships/hyperlink" Target="http://www.acm.org/education/curricula-recommendations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oinformatics.org/" TargetMode="External"/><Relationship Id="rId2" Type="http://schemas.openxmlformats.org/officeDocument/2006/relationships/hyperlink" Target="http://ceoi2011.mimuw.edu.pl/" TargetMode="External"/><Relationship Id="rId3" Type="http://schemas.openxmlformats.org/officeDocument/2006/relationships/hyperlink" Target="http://ceoi2011.mimuw.edu.pl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cm.math.spbu.ru/~snark/ioi/index.cgi?data=stat/pplwinners&amp;class=ioi2011&amp;year=2011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4920" y="3962160"/>
            <a:ext cx="741708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278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br>
              <a:rPr sz="2200"/>
            </a:br>
            <a:r>
              <a:rPr b="1" lang="en-US" sz="3600" spc="-1" strike="noStrike">
                <a:solidFill>
                  <a:srgbClr val="003278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32000" y="4149720"/>
            <a:ext cx="74167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ačunalništvo in informatika j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Andrej Brodnik, UL FRI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andrej.brodnik@fri.uni-lj.s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gl-logo-FRI-portrait.pdf"/>
          <p:cNvPicPr/>
          <p:nvPr/>
        </p:nvPicPr>
        <p:blipFill>
          <a:blip r:embed="rId1"/>
          <a:stretch/>
        </p:blipFill>
        <p:spPr>
          <a:xfrm>
            <a:off x="6477120" y="228600"/>
            <a:ext cx="247968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Tekmovanje </a:t>
            </a:r>
            <a:r>
              <a:rPr b="1" i="1" lang="sl-SI" sz="3200" spc="-1" strike="noStrike">
                <a:solidFill>
                  <a:srgbClr val="003278"/>
                </a:solidFill>
                <a:latin typeface="Arial"/>
              </a:rPr>
              <a:t>Bober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Bober, Mednarodno tekmovanje iz izurjenosti v računalništvu in informatiki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Bebras, International Contest on Information and Computer Fluency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l-SI" sz="2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ebras.org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menjeno osnovnošolcem in srednješolce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loge podobne tekmovanju Kengur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loge se izberejo na programskem srečanj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ekaj nalog je obvezni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Slovenija sodeluje od 201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l-SI" sz="2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bober.fri.uni-lj.si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1B954-C6D9-4BD1-9FD2-6F08F8ECDF9C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RIN ni samo RIN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tekmovanja so samo vrh piramide, ki lahko nastane in gradi na široki osnov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pomembna jo izboljšati splošno znanje R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29% podjetij z 10 ali več zaposlenimi osebami, ki so v letu 2005 zaposlovali osebe, za katere se zahteva računalniško znanje, je pri tem naletelo na težave. Največ teh podjetij, 70%, je imelo težave zaradi pomanjkanja oseb z ustreznim znanjem uporabe računalnika oz. programov, 53% jih je imelo težave zaradi pomanjkanja informatikov (Kačič, 2006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. Tomazin in A. Brodnik. Učni cilji pouka računalništva v osnovni šoli – slovenski in ACM K12 kurikulum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41E5-377F-4261-A171-FB29737FA12D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RIN ni samo RIN </a:t>
            </a:r>
            <a:r>
              <a:rPr b="1" lang="sl-SI" sz="2800" spc="-1" strike="noStrike">
                <a:solidFill>
                  <a:srgbClr val="003278"/>
                </a:solidFill>
                <a:latin typeface="Arial"/>
              </a:rPr>
              <a:t>(nadalj.)</a:t>
            </a:r>
            <a:endParaRPr b="1" lang="en-US" sz="28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gospodarstvo in znanost sta močno odvisna od R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inženirstvo (strojništvo, gradbeništvo, ..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znanosti (sistemska kemija, bioinformatika, fizika, ..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družboslovje (ekonomija, sociologija, ..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humanistika (jezikoslovje, muzikologija, teologij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medicina, špor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učinkovitost dela je odvisna od </a:t>
            </a:r>
            <a:r>
              <a:rPr b="1" lang="sl-SI" sz="2100" spc="-1" strike="noStrike">
                <a:solidFill>
                  <a:srgbClr val="ff0000"/>
                </a:solidFill>
                <a:latin typeface="Arial"/>
              </a:rPr>
              <a:t>računalniške pismenosti v najširšem pomenu besed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edino splošna šola (osnovna, srednja) lahko dâ takšno pismeno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CB24-F471-487F-B38E-F40382DC9B03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RIN in (slovenski) izobraževalni siste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Bela knjiga 2011 (BK)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odročna strokovna skupina za načela v vzgoji in izobraževanju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Zaradi odvisnosti uspešnosti družb znanja od stopnje integracije IKT v njihovo delovanje in od razširjenosti ustvarjalne uporabe med ljudmi bo izobraževanje za družbo znanja moralo poskrbeti za dvig ravni tehnološke kulture vseh njenih članov in za primerno javno tehnološko infrastruktur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v BK ni predloga implementacije zgornjega načela niti v PSS za osnovno šolo niti v PSS za srednjo šol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A40D-5041-4B90-9EF5-BBEC032DF285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UNESCO IFIP RIN kurikulu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formation and Communication Technology in Secondary Education – A Curriculum for School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wwwedu.ge.ch/cptic/prospective/projets/unesco/en/welcome.html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štirje sklopi razdeljenih na modul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KT pismeno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poraba IKT na drugih področji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tegracija IKT v druge kurikulum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IKT: </a:t>
            </a:r>
            <a:r>
              <a:rPr b="0" i="1" lang="en-US" sz="2100" spc="-1" strike="noStrike">
                <a:solidFill>
                  <a:srgbClr val="ff0000"/>
                </a:solidFill>
                <a:latin typeface="Arial"/>
              </a:rPr>
              <a:t>uvod v programiranje; načrtovanje programov od zgoraj navzdol; osnovo programiranja in razvoja programja; zahtevnejši elementi programiranja; poslovni informacijski sistemi; nadzor procesov; vodenje projektov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A17E-964B-40B8-8663-41CEC389A1AD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ACM K12 RIN kurikulu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71280" y="1371600"/>
            <a:ext cx="784836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zasnovan kot obvezni predmet od vrtca do konca srednje šo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csta.acm.org/Curriculum/sub/ACMK12CSModel.html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ačunalništvo je proučevanje računalnikov in algoritmičnih procesov, vključno z njihovimi temelji, njihovo strojno opremo in sestavo programske opreme, njihovo uporabo in njihov vpliv na družbo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«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seb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iranje; načrtovanje strojne opreme; omrežja; grafika; baze podatkov in pridobitev podatkov iz teh; računalniška varnost; načrtovanje programske opreme; programski jeziki; logika; programerske paradigme; prehodi med različnimi stopnjami abstrakcije; umetna inteligenca; meje izračunljivosti (česa računalniki ne zmorejo); programi v informacijski tehnologiji in informacijskih sistemih; družbena vprašanja (varnost interneta, zasebnost, intelektualna lastnina, it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3F9D-445F-45EE-8ADA-0F9532A0E50E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ACM K12 RIN kurikulum </a:t>
            </a:r>
            <a:r>
              <a:rPr b="1" lang="sl-SI" sz="2800" spc="-1" strike="noStrike">
                <a:solidFill>
                  <a:srgbClr val="003278"/>
                </a:solidFill>
                <a:latin typeface="Arial"/>
              </a:rPr>
              <a:t>(nadalj.)</a:t>
            </a:r>
            <a:endParaRPr b="1" lang="en-US" sz="28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971280" y="1371600"/>
            <a:ext cx="784836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razdeljen na štiri zaporedne faz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27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zumevanje računalniške znanosti in umestitve računalnika v sodobnem okol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27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znanje, da računalništvo omogoča spoznavanje novih načel in pridobivanje novih spret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27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sobnost uporabe računalniških spretnosti (predvsem algoritmičnega razmišljanja) tudi pri reševanju problemov iz drugh, ne naravoslovnih področij (npr. razumevanju semantike jezik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278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polnitev drugih raznovrstnih kurikulumov za računalništvo v vsaki šoli, ki že ponuja pouk računalniš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. Tomazin. Analiza učnih ciljev za pouk računalništva v osnovni šoli. Diplomsko delo, UP PEF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jasno opredeljeni učni cilji po vsaki fazi (triad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F43A-2FBF-44C2-AA37-BB65BB1ED58A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IOI RIN kurikulu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The International Olympiad in Informatics Syllabus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people.ksp.sk/~misof/ioi-syllabus/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znanje, ki se pričakuje za reševanje nalog na IOI: teoretične osnove in inženirska znan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vsebin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teoretične osnove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: aritmetika in geometrija; diskretne strukture; osnovna logika; tehnike dokazovanja pravilnosti; principi števnosti; grafi in drevesa; 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inženirska znanja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: programske strukture; rekurzija; 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algoritmična zahtevnost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: ocena zahtevnosti; znani algoritmi; 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7C40-9364-4BE6-B7B4-5CD3E9D432D3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ACM K12 / UNESCO IFIP RIN kurikulu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71280" y="1371600"/>
            <a:ext cx="784836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 UP PEF in OŠ Koper izveden polletni krožek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Zgodnje učenje računalništva in informatik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za 5. razred v okviru predmeta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Didaktika računalništv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s://e.famnit.upr.si/course/view.php?id=287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obravnavane učne enot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omuniciranje in računalnik; Naš delovni prostor; Operacijski sistem računalnika; Vhodne in izhodne naprave; Kaj sestavlja računalnik; Vhodne in izhodne naprave; Tipkanje; Komuniciranje; Podatki in informacije; Urejevalnik besedil; Edubuntu; Prvo delo z računalnikom - učenje rokovanja z miško in tipkovnico; Scratch; Al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B494-AD24-4D7F-BF5B-9BB22AAA12DC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ACM K12 RIN in IOI kurikulu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71280" y="1371600"/>
            <a:ext cx="784836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 UL FRI izveden celoletni krožek: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Gimnazija Bežigrad, ŠC Srečka Kosovela Sežana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Gimnazija Vič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Škofijska klasična gimnazija Ljublja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s://redmine.fri.uni-lj.si/projects/krozek, http://moodle.lrk.si/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vsebin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osnovna skupina: programiranje v programskem jeziku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python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; izdelava spletne igrice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potapljanje ladjic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labirint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daljevalna skupina: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nadaljevanje spoznavanja programiranja v programskem jeziku </a:t>
            </a: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ython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; priprava na državno ACM tekmovanje v računalništvu in informat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rtk.ijs.si/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rtk.fri.uni-lj.si/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3F64-1479-4DE3-9741-91FB9734C512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Računalništvo in informatika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za področje obdelave podatkov (informacij) sta se oblikovala izraza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Computer Science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angl.)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datavetenskap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datalogi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šved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formatique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franc.)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formatik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nem.)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formatic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(ital.)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информатика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rušč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 slovenščini zaradi zgodovinskih okolišč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za disciplino nimamo enoznačnega enobesednega izraza: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ačunalništvo in informatiko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I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 – včasih okrajšujemo samo na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ačunalništvo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ačunalnikologij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– ?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limo na tri podpodročja: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strojna oprem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rogramska oprem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formati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42A0-9431-4C13-AFB3-65381A84F7A4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IOI kurikulum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71280" y="1371600"/>
            <a:ext cx="784836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a UL FRI izvedena poletne šole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Priprava na IO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rtk.fri.uni-lj.si/course/view.php?id=8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obravnavane učne enot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snovne podatkovne strukture in algoritm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goritmi na grafi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žrešni algoritmi in dinamično programiran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ačunska geometri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Kombinatori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Številski algoritm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2F2C-C055-4B07-8AF7-812C9DDFA401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In kam sedaj ...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izboljšati splošno računalniško pismeno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pomoč učiteljem RIN – UL FRI se zaveda svoje vloge in odgovornosti =&gt; </a:t>
            </a:r>
            <a:r>
              <a:rPr b="1" i="1" lang="sl-SI" sz="2100" spc="-1" strike="noStrike">
                <a:solidFill>
                  <a:srgbClr val="000000"/>
                </a:solidFill>
                <a:latin typeface="Arial"/>
              </a:rPr>
              <a:t>dobrodošl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uvajanje RIN v osnovni šoli kot obvezni predme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76"/>
              </a:spcBef>
              <a:buClr>
                <a:srgbClr val="003278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Arial"/>
              </a:rPr>
              <a:t>Slovaška, Avstrija, Nemčija, ..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razviti pedagoški program RIN s poudarkom na didaktiki R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vseživljensko (do)izobraževan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oblikovanje skupnosti učiteljev RI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sprememba kurikuluma RIN v osnovni in srednji šol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voz lahko premaknemo </a:t>
            </a:r>
            <a:r>
              <a:rPr b="1" lang="sl-SI" sz="2100" spc="-1" strike="noStrike">
                <a:solidFill>
                  <a:srgbClr val="ff0000"/>
                </a:solidFill>
                <a:latin typeface="Arial"/>
              </a:rPr>
              <a:t>samo, če bomo sodeloval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882F-80E1-4DB9-81B5-9783034F699D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Hvala za pozor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brodošl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andrej.brodnik@fri.uni-lj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7D95-F822-4FC1-8A08-78E8413E5667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Tri podpodročja, ki jih ni več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71280" y="1523880"/>
            <a:ext cx="784836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ed letom 1990 smo delil RIN na podpodročja: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strojna oprem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rogramska oprem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formati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ACM, IEEE-CS. Computing Curricula 2005, str. 12. </a:t>
            </a:r>
            <a:r>
              <a:rPr b="0" lang="en-US" sz="21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cm.org/education/education/curric_vols/CC2005-March06Final.pdf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kasneje delimo RIN na usmerjenost (študij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računalniško inženirstvo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Computer Engineering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računalniška znanost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Computer Science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informacijski sistemi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Information Science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informacijske tehnologije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Information Technology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programsko inženirstvo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Software Engineering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100" spc="-1" strike="noStrike">
                <a:solidFill>
                  <a:srgbClr val="000000"/>
                </a:solidFill>
                <a:latin typeface="Arial"/>
              </a:rPr>
              <a:t>osnova vseh študijev je skup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(http://www.acm.org/education/curricula-recommendations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6A38-F943-4C4F-B5D0-E727A1099A9C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Mednarodna olimpijada iz RIN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838080" y="1447560"/>
            <a:ext cx="79819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Mednarodna olimpijada iz RIN 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International Olympiad in Informatics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 je ena od petih UNESCO akademskih olimpijad za srednješol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oinformatics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leg IOI obstajajo regionalne in nacionalne olimpijad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Srednjeevropska olimpijada (</a:t>
            </a:r>
            <a:r>
              <a:rPr b="0" i="1" lang="sl-SI" sz="2100" spc="-1" strike="noStrike">
                <a:solidFill>
                  <a:srgbClr val="000000"/>
                </a:solidFill>
                <a:latin typeface="Arial"/>
              </a:rPr>
              <a:t>CEOI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), Slovenija (ponovno) sodeluje od 201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ttp://ceoi2011.mimuw.edu.p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625D-C5A2-4A51-9BE1-33CCAE4192B1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Mednarodna olimpijada iz RIN </a:t>
            </a:r>
            <a:r>
              <a:rPr b="1" lang="sl-SI" sz="2800" spc="-1" strike="noStrike">
                <a:solidFill>
                  <a:srgbClr val="003278"/>
                </a:solidFill>
                <a:latin typeface="Arial"/>
              </a:rPr>
              <a:t>(nadalj.)</a:t>
            </a:r>
            <a:endParaRPr b="1" lang="en-US" sz="28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8080" y="1447560"/>
            <a:ext cx="79819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nekateri zmagovalci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cm.math.spbu.ru/~snark/ioi/index.cgi?data=stat/pplwinners&amp;class=ioi2011&amp;year=2011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han Bronson(1992) – Stanford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u-Lucian Lupsa (1993) – Babes-Bolyai University, Clu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ábor Kovács (1994) - Budapest University of Technology and Econo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Daniel Kral (1996) – Karlova univer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is Sermulins (1997) – 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iel Wight (1998) – Villanova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Hong Chen (1999) – Amazon (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1FADE-3B09-43CF-9FEC-DE6BF074CBE9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Dosedanje olimpijade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71280" y="1523880"/>
            <a:ext cx="367668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9 - Bolgar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0 - Belorus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1 - Grč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2 - Nemč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3 - 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4 - Šved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5 - Nizozem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6 - Madžar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7 - Južna Afr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8 - Portugal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9 - Turč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0 - Kitaj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63A8-13A6-4CC5-A2CB-677CBDBFE914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952880" y="1523880"/>
            <a:ext cx="367668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1 - Fins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2 - Južna Kore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3 - Z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4 - Grči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5 - Poljs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6 - Mehi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7 - Hrvaš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8 - Egip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9 - Bolgari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10 - Kana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11 - Tajs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12 - Italij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Dosedanje olimpijade </a:t>
            </a:r>
            <a:r>
              <a:rPr b="1" lang="sl-SI" sz="2800" spc="-1" strike="noStrike">
                <a:solidFill>
                  <a:srgbClr val="003278"/>
                </a:solidFill>
                <a:latin typeface="Arial"/>
              </a:rPr>
              <a:t>(nadalj.)</a:t>
            </a:r>
            <a:endParaRPr b="1" lang="en-US" sz="28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51AE-4935-4790-A0AB-0A4151901553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556760" cy="48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Slovenske uvrstitve na IOI</a:t>
            </a:r>
            <a:endParaRPr b="1" lang="en-US" sz="32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7128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2011 – Tajska: (308 tekmovalcev, 79 držav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medalje: 1 bronasta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79. mesto – v 1/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po skupnem številu točk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57. država – v 3/4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po povprečju na tekmovalca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58. država – v 3/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samo najboljši tekmovalec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39. država – v 2/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27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samo najslabši tekmovalec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56. država – v 3/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D3F2-A046-47F6-850A-AB0A14FA4285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3278"/>
                </a:solidFill>
                <a:latin typeface="Arial"/>
              </a:rPr>
              <a:t>Slovenske uvrstitve na IOI </a:t>
            </a:r>
            <a:r>
              <a:rPr b="1" lang="sl-SI" sz="2800" spc="-1" strike="noStrike">
                <a:solidFill>
                  <a:srgbClr val="003278"/>
                </a:solidFill>
                <a:latin typeface="Arial"/>
              </a:rPr>
              <a:t>(nadalj.)</a:t>
            </a:r>
            <a:endParaRPr b="1" lang="en-US" sz="2800" spc="-1" strike="noStrike">
              <a:solidFill>
                <a:srgbClr val="003278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8080" y="1523880"/>
            <a:ext cx="381024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9 – Bolgarij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0 – Belorusij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1 – Grčij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2 – Nemčij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i sodelov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3 – Argentin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i podat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4 – Švedsk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rez medal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5 – Nizozemsk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i podat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6 – Madžarska: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2 brona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7 - Južna Afrika: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8 – Portugalska: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9 – Turčija: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0 – Kitajska: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i podat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971640" y="6237360"/>
            <a:ext cx="6264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78"/>
                </a:solidFill>
                <a:latin typeface="Arial"/>
              </a:rPr>
              <a:t>Andrej Brodnik: Računalništvo in informatika je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7667640" y="630864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F520-0ED0-428E-B6F0-13018D6E64D0}" type="slidenum">
              <a:rPr b="1" lang="sl-SI" sz="2100" spc="-1" strike="noStrike">
                <a:solidFill>
                  <a:srgbClr val="003278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ontent Placeholder 2"/>
          <p:cNvSpPr/>
          <p:nvPr/>
        </p:nvSpPr>
        <p:spPr>
          <a:xfrm>
            <a:off x="4800600" y="1523880"/>
            <a:ext cx="403848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1 – Finska: 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ni podat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2 - Južna Koreja: </a:t>
            </a:r>
            <a:r>
              <a:rPr b="0" i="1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3 – ZDA: </a:t>
            </a:r>
            <a:r>
              <a:rPr b="0" i="1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3 bronas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4 – Grčija: </a:t>
            </a:r>
            <a:r>
              <a:rPr b="0" i="1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5 – Poljska: 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ni podat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6 – Mehika: 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ni podatk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7 – Hrvaška: </a:t>
            </a:r>
            <a:r>
              <a:rPr b="0" i="1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8 – Egipt: </a:t>
            </a:r>
            <a:r>
              <a:rPr b="0" i="1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9 – Bolgarija: </a:t>
            </a:r>
            <a:r>
              <a:rPr b="0" i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brez medal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10 – Kanada: </a:t>
            </a:r>
            <a:r>
              <a:rPr b="0" i="1" lang="en-US" sz="2100" spc="-1" strike="noStrike" u="sng">
                <a:solidFill>
                  <a:srgbClr val="ff0000"/>
                </a:solidFill>
                <a:uFillTx/>
                <a:latin typeface="Arial"/>
              </a:rPr>
              <a:t>1 srebr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11 – Tajska:</a:t>
            </a:r>
            <a:r>
              <a:rPr b="0" lang="sl-SI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l-SI" sz="2100" spc="-1" strike="noStrike" u="sng">
                <a:solidFill>
                  <a:srgbClr val="ff0000"/>
                </a:solidFill>
                <a:uFillTx/>
                <a:latin typeface="Arial"/>
              </a:rPr>
              <a:t>1 bronas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4T06:40:18Z</dcterms:created>
  <dc:creator>Boris Divjak</dc:creator>
  <dc:description/>
  <dc:language>en-US</dc:language>
  <cp:lastModifiedBy>Andrej (Andy) Brodnik</cp:lastModifiedBy>
  <cp:lastPrinted>2011-08-23T08:47:25Z</cp:lastPrinted>
  <dcterms:modified xsi:type="dcterms:W3CDTF">2011-08-24T21:10:45Z</dcterms:modified>
  <cp:revision>217</cp:revision>
  <dc:subject/>
  <dc:title>Slide 1</dc:title>
</cp:coreProperties>
</file>