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9C55-5F93-4610-95B5-36353EB0A25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520C-64DE-4FC2-938C-07292201978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AB8A-3AFF-4F0E-9E9F-30E6358FE41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4069-C48F-4D8E-9A61-4187702E4B3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633B-0ADE-44A9-9BB4-3FF4AFC58A3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558D-CB8D-4091-845D-54D8D57BC9C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F78B-FC85-4932-80CF-1F4C8F1D686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6277-8328-4DB2-97A8-1BD90595F16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C07D-6ABF-492F-9934-984FBD30C00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F3E5-0D29-4BF1-9773-F979BD5FCB4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4BED-3D65-43AB-ACE1-CBBD8624868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E194-8FD6-41E8-816E-2F1CA4DE6AB2}" type="datetime">
              <a:rPr b="0" lang="sl-SI" sz="1400" spc="-1" strike="noStrike">
                <a:solidFill>
                  <a:srgbClr val="ffffff"/>
                </a:solidFill>
                <a:latin typeface="Times New Roman"/>
              </a:rPr>
              <a:t>31.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