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9216-9CEC-4285-8266-D0DA77FCDFE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22FA-CAD6-43A0-80DF-41030CE7E88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B02B-8D8A-404E-859F-FF73638D98B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6049-4EEC-4FB6-87EB-FB4AD939D35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5EAF-CBCF-4BA6-8BBE-9FF5B66580F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FAF0-C794-4E6B-B820-15AD520C9B7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B7A9-C5DF-474F-B346-41AFE77FDBC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A7A2-8922-4EA0-B83B-95C04D0BD9D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9084-7A0A-4CA0-A14F-7304831D125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E701-BF08-4EEF-8ED3-141C1F52432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CB79-6273-4C2C-BB61-C9D2AAB5692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1D47-7AE7-454A-9691-F2C74968DAFC}" type="datetime">
              <a:rPr b="0" lang="sl-SI" sz="1400" spc="-1" strike="noStrike">
                <a:solidFill>
                  <a:srgbClr val="ffffff"/>
                </a:solidFill>
                <a:latin typeface="Times New Roman"/>
              </a:rPr>
              <a:t>30.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