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276B-AD07-482B-A74B-15348EC939F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1134-189C-44B1-9427-97C66132B5E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D7BB-B09F-4931-B685-7D5C58703D1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6405-886C-4D39-90CA-ED1F08DCA30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629E-05E8-4611-B047-5DDEB38B291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6893-F41C-477D-A309-A481584BF9A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51C0-C76A-49FF-8068-CF6D34EE7A3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DCC4-C707-481F-AAC4-0D254952F1B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6EEF-ADB0-47BF-995B-33FCE5B647D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B6FD-EA45-49D1-A855-041A0091169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82B0-FBF9-45FF-8C80-5859F4C09BE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A7CA-0476-43E2-AB7D-64B6AA01CEF2}" type="datetime">
              <a:rPr b="0" lang="sl-SI" sz="1400" spc="-1" strike="noStrike">
                <a:solidFill>
                  <a:srgbClr val="ffffff"/>
                </a:solidFill>
                <a:latin typeface="Times New Roman"/>
              </a:rPr>
              <a:t>31.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